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1BCC-DECF-404C-B68A-2F282B8FB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E1AB-751D-432A-B076-9149B83C7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B2AE-63B0-41EF-8570-844120116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1F7A-93FA-45F1-9C65-F2F0DEABF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CD5A8-2404-433D-B554-79F533549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91C5F-7E73-4961-B407-CF69EA1E8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FDF88-FDB7-4B3A-97FC-CF8FF8BA8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13BA5-CC9E-439B-8340-6210645B0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BAE0E-F11F-4C14-B819-EF45D7F51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7ADE4-D4BF-4EF5-8E4B-1CF9E8674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94197-DA32-48D8-A5BA-E4D2D9B9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3E9F-A36D-46BA-8987-164BF4106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0A655-EBB5-49A4-A867-E598B3E4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E643E-C0C0-4DD7-B555-B12BA5244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1AE99-C062-4BAD-87FF-9BC588B73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3E924-2705-42CD-9DE4-E5958FA08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BEB9E-A8FC-49CF-931F-68339DEB8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82AF-9F74-4150-AAD6-1F74DD635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D229-C800-4811-97D1-A0F70F66D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13C1-8812-492D-BAB7-56B04BDEC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4484-6128-47E0-9342-A227CC9EB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0783-5DD2-4350-9795-B475E7863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FC55-CAED-4A33-A61A-F165163E1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7DCE-3A86-41D0-93E3-4440093F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E1988-8F4E-435E-9ED3-690AF513B64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05FBA-2754-4F75-B8A5-C2ECEEB18B6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nditional “if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”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”لو“ الشرطي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he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had liv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 Taif, 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ould have bee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pp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he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had visi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Makkah, 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ould have see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 Ka’ab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0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1537560" y="2209680"/>
            <a:ext cx="7377480" cy="398880"/>
            <a:chOff x="1537560" y="2209680"/>
            <a:chExt cx="7377480" cy="398880"/>
          </a:xfrm>
        </p:grpSpPr>
        <p:sp>
          <p:nvSpPr>
            <p:cNvPr id="104" name=""/>
            <p:cNvSpPr/>
            <p:nvPr/>
          </p:nvSpPr>
          <p:spPr>
            <a:xfrm>
              <a:off x="2667240" y="2209680"/>
              <a:ext cx="62478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if + had +</a:t>
              </a:r>
              <a:r>
                <a:rPr b="0" lang="ar-SA" sz="1800" spc="-1" strike="noStrike">
                  <a:solidFill>
                    <a:srgbClr val="cc3300"/>
                  </a:solidFill>
                  <a:latin typeface="Tahoma"/>
                </a:rPr>
                <a:t>تصريف ثالث</a:t>
              </a:r>
              <a:r>
                <a:rPr b="0" lang="ar-SA" sz="18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      </a:t>
              </a: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would have</a:t>
              </a:r>
              <a:r>
                <a:rPr b="0" lang="ar-SA" sz="2000" spc="-1" strike="noStrike">
                  <a:solidFill>
                    <a:srgbClr val="cc3300"/>
                  </a:solidFill>
                  <a:latin typeface="Tahoma"/>
                </a:rPr>
                <a:t>تصريف ثالث</a:t>
              </a:r>
              <a:r>
                <a:rPr b="0" lang="ar-SA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r>
                <a:rPr b="0" lang="ar-SA" sz="2000" spc="-1" strike="noStrike">
                  <a:solidFill>
                    <a:srgbClr val="cc3300"/>
                  </a:solidFill>
                  <a:latin typeface="Tahoma"/>
                </a:rPr>
                <a:t>+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37560" y="2209680"/>
              <a:ext cx="5493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3)</a:t>
              </a:r>
              <a:r>
                <a:rPr b="0" lang="ar-SA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5257800" y="2438280"/>
            <a:ext cx="371520" cy="0"/>
          </a:xfrm>
          <a:prstGeom prst="line">
            <a:avLst/>
          </a:prstGeom>
          <a:ln w="255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2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23" name=""/>
          <p:cNvGraphicFramePr/>
          <p:nvPr/>
        </p:nvGraphicFramePr>
        <p:xfrm>
          <a:off x="457200" y="2270160"/>
          <a:ext cx="8229240" cy="3018960"/>
        </p:xfrm>
        <a:graphic>
          <a:graphicData uri="http://schemas.openxmlformats.org/drawingml/2006/table">
            <a:tbl>
              <a:tblPr/>
              <a:tblGrid>
                <a:gridCol w="4114440"/>
                <a:gridCol w="4114800"/>
              </a:tblGrid>
              <a:tr h="42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rect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باشر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direct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غير مباشر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said to the servant: “bring me a glass of water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</a:t>
                      </a:r>
                      <a:r>
                        <a:rPr b="0" lang="en-US" sz="1600" spc="-1" strike="noStrike" u="sng">
                          <a:solidFill>
                            <a:srgbClr val="cc3300"/>
                          </a:solidFill>
                          <a:uFillTx/>
                          <a:latin typeface="Arial"/>
                        </a:rPr>
                        <a:t>ordered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the servant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o bring him a glass of water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son said to his father: “please , give me some money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 son </a:t>
                      </a:r>
                      <a:r>
                        <a:rPr b="0" lang="en-US" sz="1600" spc="-1" strike="noStrike" u="sng">
                          <a:solidFill>
                            <a:srgbClr val="cc3300"/>
                          </a:solidFill>
                          <a:uFillTx/>
                          <a:latin typeface="Arial"/>
                        </a:rPr>
                        <a:t>begged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his father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o give him some money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doctor said to me: “Drink a lot of water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 doctor </a:t>
                      </a:r>
                      <a:r>
                        <a:rPr b="0" lang="en-US" sz="1600" spc="-1" strike="noStrike" u="sng">
                          <a:solidFill>
                            <a:srgbClr val="cc3300"/>
                          </a:solidFill>
                          <a:uFillTx/>
                          <a:latin typeface="Arial"/>
                        </a:rPr>
                        <a:t>advised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m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o drink a lot of water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said to me: “Do not go to the market tonight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told m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ot to go to the market that night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ommand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طلب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 لتحويل جملة تعجب من مباشر                 إلى كلام منقول                  نتبع الخطوات التالية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احذف كلمة التعجب وضع بدلاً منها كلمة تدل عليها مثل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احذف الأقواس و ضع كلمة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غير الكلمات و الضمائر و الأفعال حسب المعنى وكما سبق في الجملة الخبرية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ملاحظة: كلمات التعجب إما حرف استفهام استعمل ككلمة تعجب مثل:                   وتعرفها بوجود علامة تعجب في نهاية الجملة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أو كلمة تعجب بذاتها مثل:                               و تعرفها بوجود علامة التعجب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!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29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xclamation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تعجب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161680" y="2362320"/>
            <a:ext cx="7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Dire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558880" y="2362320"/>
            <a:ext cx="106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Report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800600" y="556272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Alas, Hurrah, O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562720" y="44956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th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1676520" y="3429000"/>
          <a:ext cx="7086600" cy="909720"/>
        </p:xfrm>
        <a:graphic>
          <a:graphicData uri="http://schemas.openxmlformats.org/drawingml/2006/table">
            <a:tbl>
              <a:tblPr/>
              <a:tblGrid>
                <a:gridCol w="3543480"/>
                <a:gridCol w="35431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regret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بندم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anger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بغضب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joy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بفرح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admiration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بإعجاب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sadness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بحزن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371600" y="51055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how, wh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1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457200" y="2270160"/>
          <a:ext cx="8229240" cy="1720440"/>
        </p:xfrm>
        <a:graphic>
          <a:graphicData uri="http://schemas.openxmlformats.org/drawingml/2006/table">
            <a:tbl>
              <a:tblPr/>
              <a:tblGrid>
                <a:gridCol w="4114440"/>
                <a:gridCol w="4114800"/>
              </a:tblGrid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rect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باشر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direct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غير مباشر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said : “Alas! I will not find my money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said </a:t>
                      </a:r>
                      <a:r>
                        <a:rPr b="0" lang="en-US" sz="1600" spc="-1" strike="noStrike" u="sng">
                          <a:solidFill>
                            <a:srgbClr val="cc3300"/>
                          </a:solidFill>
                          <a:uFillTx/>
                          <a:latin typeface="Arial"/>
                        </a:rPr>
                        <a:t>with sorrow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hat he would not find his money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said : “How foolish I have been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said </a:t>
                      </a:r>
                      <a:r>
                        <a:rPr b="0" lang="en-US" sz="1600" spc="-1" strike="noStrike" u="sng">
                          <a:solidFill>
                            <a:srgbClr val="cc3300"/>
                          </a:solidFill>
                          <a:uFillTx/>
                          <a:latin typeface="Arial"/>
                        </a:rPr>
                        <a:t>with regret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hat he had been foolish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xclamation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تعجب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untries and Nationalities</a:t>
            </a:r>
            <a:br>
              <a:rPr sz="2800"/>
            </a:b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البلدان و الجنسيات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في اللغة العربية عادة ما نضيف حرف ”ي“ لاسم البلد و ذلك لتكوين الجنسية فنقول مثلاً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السعودية          :      سعودي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أما في اللغة الإنجليزية فهناك خمس حروف محتملة للإضافة و هي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, n, ian, ish, e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و ليس هناك قاعدة ثابتة لهذه الحروف.  وهذه بعض الأمثلة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514520" y="3732120"/>
          <a:ext cx="3095640" cy="2374920"/>
        </p:xfrm>
        <a:graphic>
          <a:graphicData uri="http://schemas.openxmlformats.org/drawingml/2006/table">
            <a:tbl>
              <a:tblPr/>
              <a:tblGrid>
                <a:gridCol w="1509840"/>
                <a:gridCol w="1585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nt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ational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udi Arab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aud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man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ger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lgeri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by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iby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lestin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lestini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r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yri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5410080" y="3733920"/>
          <a:ext cx="3162600" cy="2444760"/>
        </p:xfrm>
        <a:graphic>
          <a:graphicData uri="http://schemas.openxmlformats.org/drawingml/2006/table">
            <a:tbl>
              <a:tblPr/>
              <a:tblGrid>
                <a:gridCol w="1581120"/>
                <a:gridCol w="1581480"/>
              </a:tblGrid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nt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ational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itai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ritis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rke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urkis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i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hine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ban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ebane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a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renc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witzerlan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wis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nditional “if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”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”لو“ الشرطي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2668680"/>
            <a:ext cx="769608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يستخدم هذا التركيب في الحالة التي تكون فيها نتيجة الفعل حقيقة دائمة و ثابتة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f you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boi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ater, it becomes steam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(لو أننا غلينا الماء، فأنه يصبح بخاراً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و هذه حقيقة ثابتة و ليست مقيدة بوقت معين لذا جاءت كلمة                  في المضارع و ليست في المستقبل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766520" y="2209680"/>
            <a:ext cx="6310080" cy="398880"/>
            <a:chOff x="1766520" y="2209680"/>
            <a:chExt cx="6310080" cy="398880"/>
          </a:xfrm>
        </p:grpSpPr>
        <p:grpSp>
          <p:nvGrpSpPr>
            <p:cNvPr id="113" name=""/>
            <p:cNvGrpSpPr/>
            <p:nvPr/>
          </p:nvGrpSpPr>
          <p:grpSpPr>
            <a:xfrm>
              <a:off x="1766520" y="2209680"/>
              <a:ext cx="6310080" cy="398880"/>
              <a:chOff x="1766520" y="2209680"/>
              <a:chExt cx="6310080" cy="398880"/>
            </a:xfrm>
          </p:grpSpPr>
          <p:sp>
            <p:nvSpPr>
              <p:cNvPr id="114" name=""/>
              <p:cNvSpPr/>
              <p:nvPr/>
            </p:nvSpPr>
            <p:spPr>
              <a:xfrm>
                <a:off x="2712240" y="2209680"/>
                <a:ext cx="536436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if +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 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 present 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مضارع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            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present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مضارع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766520" y="2209680"/>
                <a:ext cx="54936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4)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5181480" y="2438280"/>
              <a:ext cx="914400" cy="0"/>
            </a:xfrm>
            <a:prstGeom prst="line">
              <a:avLst/>
            </a:prstGeom>
            <a:ln w="2556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1758960" y="4191120"/>
            <a:ext cx="6920280" cy="398880"/>
            <a:chOff x="1758960" y="4191120"/>
            <a:chExt cx="6920280" cy="398880"/>
          </a:xfrm>
        </p:grpSpPr>
        <p:grpSp>
          <p:nvGrpSpPr>
            <p:cNvPr id="118" name=""/>
            <p:cNvGrpSpPr/>
            <p:nvPr/>
          </p:nvGrpSpPr>
          <p:grpSpPr>
            <a:xfrm>
              <a:off x="1758960" y="4191120"/>
              <a:ext cx="6920280" cy="398880"/>
              <a:chOff x="1758960" y="4191120"/>
              <a:chExt cx="6920280" cy="398880"/>
            </a:xfrm>
          </p:grpSpPr>
          <p:sp>
            <p:nvSpPr>
              <p:cNvPr id="119" name=""/>
              <p:cNvSpPr/>
              <p:nvPr/>
            </p:nvSpPr>
            <p:spPr>
              <a:xfrm>
                <a:off x="2716200" y="4191120"/>
                <a:ext cx="596304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if +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 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 present 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مضارع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            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instructions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تعليمات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758960" y="4191120"/>
                <a:ext cx="56484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5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)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>
              <a:off x="5181480" y="4419360"/>
              <a:ext cx="914400" cy="0"/>
            </a:xfrm>
            <a:prstGeom prst="line">
              <a:avLst/>
            </a:prstGeom>
            <a:ln w="2556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990720" y="4648320"/>
            <a:ext cx="76960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f the radio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i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too loud,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urn it off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   Or       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urn the radio off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f it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i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too loud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f you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ar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under 17,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don’t drive a car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Or   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Don’t drive a ca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f you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ar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under 17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80760" y="3429000"/>
            <a:ext cx="90612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becom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هذا النوع من الجمل يسمى أيضاً الكلام الغير مباش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direct Spee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four kinds of direct and Indirect Speech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هناك أربعة أنواع من الكلام المباشر و غير المباشر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Statement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الجملة الخبري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Question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     السؤا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ommand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   الطلب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Exclamation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 التعج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* لتحويل جملة خبرية من مباشر                 إلى كلام منقول                  نتبع الخطوات التالية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- نضع الاسم أو الضمير ثم فعل القول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- نضع أداة الربط         و يمكننا الاستغناء عنها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- نحول الضمائر حسب المعنى و أهم هذه الضمائر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, sh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s, 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i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- نحول الأزمنة كما يلي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sen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مضارع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as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ماضي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as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ماضي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ast Perfec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ماضي تا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- نحول بعض الكلمات إن وجدت كما يلي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w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الآن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حينئ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r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r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ast nigh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night befor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i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a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esterda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day befor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omorrow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following da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3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جملة الخبرية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997320" y="2895480"/>
            <a:ext cx="56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h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542920" y="2438280"/>
            <a:ext cx="7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Dire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44680" y="2438280"/>
            <a:ext cx="106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Report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410080" y="2666880"/>
            <a:ext cx="54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sai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371600" y="3505320"/>
            <a:ext cx="3429000" cy="2361960"/>
            <a:chOff x="1371600" y="3505320"/>
            <a:chExt cx="3429000" cy="2361960"/>
          </a:xfrm>
        </p:grpSpPr>
        <p:sp>
          <p:nvSpPr>
            <p:cNvPr id="142" name=""/>
            <p:cNvSpPr/>
            <p:nvPr/>
          </p:nvSpPr>
          <p:spPr>
            <a:xfrm>
              <a:off x="1371600" y="3505320"/>
              <a:ext cx="685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523880" y="373392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343400" y="3505320"/>
              <a:ext cx="457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343400" y="3733920"/>
              <a:ext cx="457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514600" y="4191120"/>
              <a:ext cx="380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209680" y="4419720"/>
              <a:ext cx="762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38280" y="4800600"/>
              <a:ext cx="129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38280" y="5029200"/>
              <a:ext cx="129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38280" y="5257800"/>
              <a:ext cx="129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438280" y="5486400"/>
              <a:ext cx="129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38280" y="5638680"/>
              <a:ext cx="129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438280" y="5867280"/>
              <a:ext cx="129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57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جملة الخبرية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57200" y="2270160"/>
          <a:ext cx="8229240" cy="3800160"/>
        </p:xfrm>
        <a:graphic>
          <a:graphicData uri="http://schemas.openxmlformats.org/drawingml/2006/table">
            <a:tbl>
              <a:tblPr/>
              <a:tblGrid>
                <a:gridCol w="4114800"/>
                <a:gridCol w="4114440"/>
              </a:tblGrid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rect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باشر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direct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غير مباشر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live in Riyadh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said tha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iv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n Riyadh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are happ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y said that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they wer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app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 said: "I have not been in the school library recentl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he said tha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e ha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not been to the school library recentl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said to me: "I shall see you tomorr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told m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hat he would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e the next da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إذا كان هناك (.) بين جملتين لشخص متكلم واحد نضع بدلاً منها عبارة:                           والتي تعني أضاف:   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said to him: “We shall see you tomorrow.  We shall visit Ahm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y told him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hat they w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e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im the next da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 u="sng">
                          <a:solidFill>
                            <a:srgbClr val="ffff00"/>
                          </a:solidFill>
                          <a:uFillTx/>
                          <a:latin typeface="Arial"/>
                        </a:rPr>
                        <a:t>and added tha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hey w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visit Ahm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إذا كانت كلمة القول                      مضارع حينئذ لا تغير أزمنة الجملة إنما التغيير يكون فقط في الضمائر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 says: “I will cook the food tomorr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he says tha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will cook the food tomorr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say: “We are playing football n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We say tha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we are playing football n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"/>
          <p:cNvSpPr/>
          <p:nvPr/>
        </p:nvSpPr>
        <p:spPr>
          <a:xfrm>
            <a:off x="2936880" y="4343400"/>
            <a:ext cx="127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and added th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222960" y="5105520"/>
            <a:ext cx="80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say, say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* لتحويل سؤال من مباشر                 إلى كلام منقول                  نتبع الخطوات التالية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- الفعل           يحدد زمن السؤال ، وهي كما يلي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sen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مضارع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s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ماضي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s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ماضي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st Perf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ماضي تا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- إذا كان السؤال يحتوي على أداة سؤال تستخدم نفسها كأداة ربط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- يتم تحويل السؤال إلى جملة خبرية و هو بتقديم الفاعل على الفعل المساعد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- يلاحظ تغيير بعض الضمائر حسب معنى الجملة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6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Question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سؤال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695200" y="2743200"/>
            <a:ext cx="7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Dire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92040" y="2743200"/>
            <a:ext cx="106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Report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819520" y="35053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514600" y="380988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296120" y="3048120"/>
            <a:ext cx="7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ask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8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83" name=""/>
          <p:cNvGraphicFramePr/>
          <p:nvPr/>
        </p:nvGraphicFramePr>
        <p:xfrm>
          <a:off x="457200" y="2270160"/>
          <a:ext cx="8229240" cy="3114360"/>
        </p:xfrm>
        <a:graphic>
          <a:graphicData uri="http://schemas.openxmlformats.org/drawingml/2006/table">
            <a:tbl>
              <a:tblPr/>
              <a:tblGrid>
                <a:gridCol w="4114800"/>
                <a:gridCol w="4114440"/>
              </a:tblGrid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rect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باشر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direct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غير مباشر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 is your nam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</a:t>
                      </a: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sked me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nam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as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y are you lat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 teacher asked me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why I was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te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re is your book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asked m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wher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book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as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ستخدم      كأداة ربط للسؤال الذي لا يحتوي على أداة سؤال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your school very larg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 asked me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 u="sng">
                          <a:solidFill>
                            <a:srgbClr val="ffff00"/>
                          </a:solidFill>
                          <a:uFillTx/>
                          <a:latin typeface="Arial"/>
                        </a:rPr>
                        <a:t>if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my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hool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was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y large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.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إذا كان السؤال يبدأ أو يحتوي على        أو            احذفها و حول الفعل إلى زمن الماضي البسيط.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re do you liv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asked m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where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I liv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es he go to schoo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I asked him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f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en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o schoo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"/>
          <p:cNvSpPr/>
          <p:nvPr/>
        </p:nvSpPr>
        <p:spPr>
          <a:xfrm>
            <a:off x="7694280" y="388620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i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Question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سؤال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58960" y="4495680"/>
            <a:ext cx="52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do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087240" y="449568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91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94" name=""/>
          <p:cNvGraphicFramePr/>
          <p:nvPr/>
        </p:nvGraphicFramePr>
        <p:xfrm>
          <a:off x="457200" y="2270160"/>
          <a:ext cx="8229240" cy="2444400"/>
        </p:xfrm>
        <a:graphic>
          <a:graphicData uri="http://schemas.openxmlformats.org/drawingml/2006/table">
            <a:tbl>
              <a:tblPr/>
              <a:tblGrid>
                <a:gridCol w="4114800"/>
                <a:gridCol w="4114440"/>
              </a:tblGrid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rect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باشر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direct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غير مباشر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إذا كان السؤال يبدأ أو يحتوي على            احذفها و حول الفعل إلى زمن الماضي البسيط (تصريف ثالث +          ).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re did you go yesterda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ami asked m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wher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 had gone the day befor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d Ahmed buy a new car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li asked m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f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hmed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ad bough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 new car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إذا كانت كلمة السؤال                      مضارع حينئذ لا تغير أزمنة الجملة إنما التغيير يكون فقط في الضمائر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o is your English teacher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y ask m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ho m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nglish teacher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 are your marks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asks m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hat my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s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ar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Question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سؤال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32800" y="297180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d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589400" y="297180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ha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238800" y="3886200"/>
            <a:ext cx="81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ask, as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 لتحويل جملة طلبية من مباشر                 إلى كلام منقول                  نتبع الخطوات التالية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نستخدم ( أمر                     ) إذا كان الكلام يقصد به الأمر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و نستخدم ( رجاء                   ) إذا كان الكلام يقصد به الرجاء و التوسل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و نستخدم ( نصح                     ) إذا كان الكلام يقصد به النصيحة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و نستخدم ( أخبر                     ) إذا كان الكلام موجه من شخص إلى شخص يساويه في المرتبة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احذف الأقواس المفتوحة و ضع كلمة        قبل الفع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احذف كلمتي                     من الجملة إن وجدتا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غير بعض الكلمات و الضمائر حسب المعنى وكما سب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553080" y="342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553080" y="342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0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ommand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طلب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161680" y="2743200"/>
            <a:ext cx="7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Dire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558880" y="2743200"/>
            <a:ext cx="106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Report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128280" y="3276720"/>
            <a:ext cx="94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order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47720" y="3581280"/>
            <a:ext cx="90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begg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146280" y="38862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advis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323760" y="419112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tol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029200" y="50292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019920" y="53341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Please, d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3T00:18:46Z</dcterms:created>
  <dc:creator>user</dc:creator>
  <dc:description/>
  <dc:language>en-US</dc:language>
  <cp:lastModifiedBy>user</cp:lastModifiedBy>
  <dcterms:modified xsi:type="dcterms:W3CDTF">2007-07-13T00:18:47Z</dcterms:modified>
  <cp:revision>1</cp:revision>
  <dc:subject/>
  <dc:title>Conditional “if” ”لو“ الشرطية</dc:title>
</cp:coreProperties>
</file>