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5F89-AEFC-4B2F-92BA-BCA9969A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1C0-0CE6-442F-BBE5-92ABC487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6A0D-4D4A-4948-9973-9A09ABEF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7EBE-EAC6-4C5E-A3FD-BC7040ED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EE1F-4F1D-424A-92B6-F4A0D181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98C2-0A01-46C9-97D8-F0B205F5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3209-FF80-4EAF-A2A8-608139AF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9B53-1D3C-4822-BEE6-5E56B925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A23F-0709-4102-A66D-766F5EAB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1765-BFAC-4BB5-9A30-655316FF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DF21-49B4-4EFB-84D9-1AEED223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4AEE-C321-49F3-A55B-521475A5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C1CB-6492-4E2F-A773-B2846119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F440-4EBC-4C9D-981F-5F1FB1A4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00CE-A598-4BF2-B9A1-A9B95C3A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5612-FC0E-402B-8742-2ABE752E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996C-E10E-4D45-AE83-07B6579E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5895-2B06-49DC-911D-104420EE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B48E-1131-4C5E-83DB-73BA62BD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9F6A-2B00-4BFD-AE58-E3D582BB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D879-4DF6-4E24-94A1-35DA3924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89F-1C89-4E74-ADBC-90F4817F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73C8-70D2-42E6-B6E0-9139EFE7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AB5-AEE8-4CD3-B53E-53685B6F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536F-2621-4024-BC87-449DE7F1C6D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4F87-4A4D-448A-AFA6-508673841FF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liv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aif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be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visi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akkah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se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Ka’ab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0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537560" y="2209680"/>
            <a:ext cx="7377480" cy="398880"/>
            <a:chOff x="1537560" y="2209680"/>
            <a:chExt cx="7377480" cy="398880"/>
          </a:xfrm>
        </p:grpSpPr>
        <p:sp>
          <p:nvSpPr>
            <p:cNvPr id="104" name=""/>
            <p:cNvSpPr/>
            <p:nvPr/>
          </p:nvSpPr>
          <p:spPr>
            <a:xfrm>
              <a:off x="2667240" y="2209680"/>
              <a:ext cx="6247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f + had +</a:t>
              </a:r>
              <a:r>
                <a:rPr b="0" lang="ar-SA" sz="18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would have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+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37560" y="2209680"/>
              <a:ext cx="549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3)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257800" y="2438280"/>
            <a:ext cx="371520" cy="0"/>
          </a:xfrm>
          <a:prstGeom prst="line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3" name=""/>
          <p:cNvGraphicFramePr/>
          <p:nvPr/>
        </p:nvGraphicFramePr>
        <p:xfrm>
          <a:off x="457200" y="2270160"/>
          <a:ext cx="8229240" cy="30189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the servant: “bring me a glass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order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he servan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bring him a glass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on said to his father: “please , give me some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son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begg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his father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give him some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doctor said to me: “Drink a lot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doctor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advis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drink a lot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“Do not go to the market to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 to go to the market that 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تعجب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ة التعجب وضع بدلاً منها كلمة تدل عليها مثل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و ضع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الكلمات و الضمائر و الأفعال حسب المعنى وكما سبق في الجملة الخبر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ملاحظة: كلمات التعجب إما حرف استفهام استعمل ككلمة تعجب مثل:                   وتعرفها بوجود علامة تعجب في نهاية الجمل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أو كلمة تعجب بذاتها مثل:                               و تعرفها بوجود علامة التعجب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61680" y="236232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58880" y="236232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55627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las, Hurrah, O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44956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6520" y="3429000"/>
          <a:ext cx="7086600" cy="909720"/>
        </p:xfrm>
        <a:graphic>
          <a:graphicData uri="http://schemas.openxmlformats.org/drawingml/2006/table">
            <a:tbl>
              <a:tblPr/>
              <a:tblGrid>
                <a:gridCol w="3543480"/>
                <a:gridCol w="3543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regre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ندم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nger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غضب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jo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فرح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dmiration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إعجاب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adness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بحزن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371600" y="5105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ow, w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2270160"/>
          <a:ext cx="8229240" cy="172044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Alas! I will not find my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sorrow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not find his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How foolish I have bee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regret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had been foolish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ries and Nationalities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بلدان و الجنسيات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اللغة العربية عادة ما نضيف حرف ”ي“ لاسم البلد و ذلك لتكوين الجنسية فنقول مثلا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سعودية          :      سعود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ما في اللغة الإنجليزية فهناك خمس حروف محتملة للإضافة و هي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, n, ian, ish, 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ليس هناك قاعدة ثابتة لهذه الحروف.  وهذه بعض الأمثلة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14520" y="3732120"/>
          <a:ext cx="3095640" cy="2374920"/>
        </p:xfrm>
        <a:graphic>
          <a:graphicData uri="http://schemas.openxmlformats.org/drawingml/2006/table">
            <a:tbl>
              <a:tblPr/>
              <a:tblGrid>
                <a:gridCol w="1509840"/>
                <a:gridCol w="15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udi Arab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aud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ma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ge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ge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by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est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lestin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410080" y="3733920"/>
          <a:ext cx="3162600" cy="2444760"/>
        </p:xfrm>
        <a:graphic>
          <a:graphicData uri="http://schemas.openxmlformats.org/drawingml/2006/table">
            <a:tbl>
              <a:tblPr/>
              <a:tblGrid>
                <a:gridCol w="1581120"/>
                <a:gridCol w="15814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t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it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rke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urk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i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ban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ba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en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tzer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wi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2668680"/>
            <a:ext cx="76960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يستخدم هذا التركيب في الحالة التي تكون فيها نتيجة الفعل حقيقة دائمة و ثابت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boi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ater, it becomes stea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(لو أننا غلينا الماء، فأنه يصبح بخارا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هذه حقيقة ثابتة و ليست مقيدة بوقت معين لذا جاءت كلمة                  في المضارع و ليست في المستقب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66520" y="2209680"/>
            <a:ext cx="6310080" cy="398880"/>
            <a:chOff x="1766520" y="2209680"/>
            <a:chExt cx="6310080" cy="398880"/>
          </a:xfrm>
        </p:grpSpPr>
        <p:grpSp>
          <p:nvGrpSpPr>
            <p:cNvPr id="113" name=""/>
            <p:cNvGrpSpPr/>
            <p:nvPr/>
          </p:nvGrpSpPr>
          <p:grpSpPr>
            <a:xfrm>
              <a:off x="1766520" y="2209680"/>
              <a:ext cx="6310080" cy="398880"/>
              <a:chOff x="1766520" y="2209680"/>
              <a:chExt cx="6310080" cy="398880"/>
            </a:xfrm>
          </p:grpSpPr>
          <p:sp>
            <p:nvSpPr>
              <p:cNvPr id="114" name=""/>
              <p:cNvSpPr/>
              <p:nvPr/>
            </p:nvSpPr>
            <p:spPr>
              <a:xfrm>
                <a:off x="2712240" y="2209680"/>
                <a:ext cx="5364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present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66520" y="2209680"/>
                <a:ext cx="549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4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181480" y="243828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58960" y="4191120"/>
            <a:ext cx="6920280" cy="398880"/>
            <a:chOff x="1758960" y="4191120"/>
            <a:chExt cx="6920280" cy="398880"/>
          </a:xfrm>
        </p:grpSpPr>
        <p:grpSp>
          <p:nvGrpSpPr>
            <p:cNvPr id="118" name=""/>
            <p:cNvGrpSpPr/>
            <p:nvPr/>
          </p:nvGrpSpPr>
          <p:grpSpPr>
            <a:xfrm>
              <a:off x="1758960" y="4191120"/>
              <a:ext cx="6920280" cy="398880"/>
              <a:chOff x="1758960" y="4191120"/>
              <a:chExt cx="6920280" cy="398880"/>
            </a:xfrm>
          </p:grpSpPr>
          <p:sp>
            <p:nvSpPr>
              <p:cNvPr id="119" name=""/>
              <p:cNvSpPr/>
              <p:nvPr/>
            </p:nvSpPr>
            <p:spPr>
              <a:xfrm>
                <a:off x="2716200" y="4191120"/>
                <a:ext cx="59630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nstructions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تعليمات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758960" y="4191120"/>
                <a:ext cx="5648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5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5181480" y="441936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990720" y="4648320"/>
            <a:ext cx="7696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the radio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it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Or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the radio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it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Or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0760" y="3429000"/>
            <a:ext cx="9061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co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ذا النوع من الجمل يسمى أيضاً الكلام الغير مباش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direct 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four kinds of direct and Indirect Speec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أربعة أنواع من الكلام المباشر و غير المباش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tatemen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جملة الخبر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السؤا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ommand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الطلب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Exclama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التعج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* لتحويل جملة خبرية من مباشر                 إلى كلام منقول                  نتبع الخطوات التالية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الاسم أو الضمير ثم فعل القو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أداة الربط         و يمكننا الاستغناء عنها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ضمائر حسب المعنى و أهم هذه الضمائر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, sh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, 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i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أزمنة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بعض الكلمات إن وجدت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الآ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حينئ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st nigh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night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ester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day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following 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3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97320" y="289548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42920" y="24382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4680" y="243828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2666880"/>
            <a:ext cx="5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71600" y="3505320"/>
            <a:ext cx="3429000" cy="2361960"/>
            <a:chOff x="1371600" y="3505320"/>
            <a:chExt cx="3429000" cy="2361960"/>
          </a:xfrm>
        </p:grpSpPr>
        <p:sp>
          <p:nvSpPr>
            <p:cNvPr id="142" name=""/>
            <p:cNvSpPr/>
            <p:nvPr/>
          </p:nvSpPr>
          <p:spPr>
            <a:xfrm>
              <a:off x="1371600" y="35053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23880" y="37339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35053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37339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14600" y="41911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9680" y="441972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38280" y="48006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50292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38280" y="52578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38280" y="54864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56386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38280" y="58672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2270160"/>
          <a:ext cx="8229240" cy="38001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ive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said that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they we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id: "I have not been in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 ha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ot been to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"I shall see you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هناك (.) بين جملتين لشخص متكلم واحد نضع بدلاً منها عبارة:                           والتي تعني أضاف: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said to him: “We shall see you tomorrow.  We shall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tol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m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and adde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قو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ys: “I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ys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say: “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e say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2936880" y="434340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nd added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2960" y="5105520"/>
            <a:ext cx="80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say, s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* لتحويل سؤال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الفعل           يحدد زمن السؤال ، وهي كما ي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إذا كان السؤال يحتوي على أداة سؤال تستخدم نفسها كأداة رب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تم تحويل السؤال إلى جملة خبرية و هو بتقديم الفاعل على الفعل المساعد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لاحظ تغيير بعض الضمائر حسب معنى الجمل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9520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9204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505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3809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96120" y="30481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sk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457200" y="2270160"/>
          <a:ext cx="8229240" cy="31143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s your na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am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 are you lat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teacher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hy I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your boo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كأداة ربط للسؤال الذي لا يحتوي على أداة سؤال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your school very larg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larg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أو            احذفها و حول الفعل إلى زمن الماضي البسيط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o you li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I 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 he go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 aske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n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769428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58960" y="449568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87240" y="44956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457200" y="2270160"/>
          <a:ext cx="8229240" cy="244440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    احذفها و حول الفعل إلى زمن الماضي البسيط (تصريف ثالث +          )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id you go yester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am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 had gone the day befo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 Ahmed buy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hmed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d b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سؤا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is your English teache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ask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o 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lish teacher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your mark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s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at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s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32800" y="29718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89400" y="29718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h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0" y="388620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sk, 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طلبية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نستخدم ( أمر                     ) إذا كان الكلام يقصد به الأم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رجاء                   ) إذا كان الكلام يقصد به الرجاء و التوس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نصح                     ) إذا كان الكلام يقصد به النصيح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أخبر                     ) إذا كان الكلام موجه من شخص إلى شخص يساويه في المرتب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المفتوحة و ضع كلمة        قبل الفع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تي                     من الجملة إن وجدتا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بعض الكلمات و الضمائر حسب المعنى وكما سب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6168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5888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28280" y="327672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orde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47720" y="358128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gg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46280" y="3886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advi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3760" y="419112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to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5029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5334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Please, 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8:46Z</dcterms:created>
  <dc:creator>user</dc:creator>
  <dc:description/>
  <dc:language>en-US</dc:language>
  <cp:lastModifiedBy>user</cp:lastModifiedBy>
  <dcterms:modified xsi:type="dcterms:W3CDTF">2007-07-13T00:18:47Z</dcterms:modified>
  <cp:revision>1</cp:revision>
  <dc:subject/>
  <dc:title>Conditional “if” ”لو“ الشرطية</dc:title>
</cp:coreProperties>
</file>