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C445-01D3-43B2-BF39-8FE11E5D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D98B-C866-4D92-BC2C-1B388FD3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EA15-A72B-4E81-B454-052156AE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9105-555A-4F17-A51A-89470FE1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F66C-24A8-4BBF-9A1B-57E5F384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5F27-E856-47AC-B4E4-983CE51F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FEA3-8085-4B1F-AA8D-74FB61D8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0359-2FF0-4029-9062-E511B607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C33C-C40E-4D95-ADB6-8BEA094F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E23F-9E44-48C8-B132-5831086D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082A-C0EF-407B-9561-2BD5C62F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6C30-DF56-4864-81E1-E8D876A3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6DE2-CA3A-4B26-AF98-BD221ABD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49E8-42F0-4651-9297-931EA04B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5C94-A04F-4C0F-ACF0-3C180A08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24ED-0E65-4CE9-A9B2-4A149440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AF2A-2589-463A-A268-6DC0BE74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3571-7869-4AC9-A38C-3F9C8E1A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969D-54A9-41AE-B90C-C6752CAB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D0A9-B95F-4CE3-85A4-6FDE4726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7A33-89F8-4666-964D-F4424451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01D1-2609-4B2B-B6BC-B1A812FD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49DF-0639-430C-8466-0D206C0A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3A42-C9EC-42A4-B62F-036A78EA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E6CA-A35D-4F79-A735-05AFA24860D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3444-B260-4E3B-8109-D8454CEEBDD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هذا النوع من المقارنة نلاحظ إضافة اللاحقة        لأغلب الصفات القصيرة ثم كلمة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i is ol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hm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y Car is fast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your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فأننا نضيف       فق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 فأننا نقلب ال        إلى        ثم نضيف          كالعا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v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v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5040" y="297180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Short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قصير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26440" y="2971800"/>
            <a:ext cx="6606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44197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46483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5715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59436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31200" y="3962520"/>
            <a:ext cx="2552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3962520"/>
            <a:ext cx="2170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67120" y="518148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8480" y="5181480"/>
            <a:ext cx="2415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10920" y="5181480"/>
            <a:ext cx="2415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70320" y="5181480"/>
            <a:ext cx="1774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dverbs of frequency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ell how often we do somethin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الظروف الدالة على التكرار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:التي تخبرنا عن عدد مرات حدوث الشيء. ومن هذه الظروف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Verb to BE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فعل يكون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يأتي ظرف التكرار بعد الفعل المساعد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lwa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n 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Other Verbs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الأفعال الأخرى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يأتي ظرف التكرار قبل الفعل العادي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ometi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eads a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1954080" y="2608200"/>
          <a:ext cx="5070240" cy="142380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ways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ائم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ften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الباً      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sual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ادة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metimes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ldom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re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ً جد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بداً   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ccasional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 حي لآخر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Tim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وقت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, whenever, as, as soon as, while, after, before, until, si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tim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وقت مع الجملة الرئيسية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ound a watch.  I was walking in the stre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ound a watc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 was walking in the stre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Plac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مكان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re, wher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plac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مكان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rev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goes his brother follows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aus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سبب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, since, 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aus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سبب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stayed at home yesterda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t was rain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Manner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سلوك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, as if, as thr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se words (conjunctions) link the adverbial clause of manner with the main sentenc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سلوك مع الجملة الرئيسية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دائماً يأتي بعد            ماضي غير حقيقي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 speaks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s i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he were a kin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لاحظ استخدام              بدلاً من              لأنها غير حقيقية و مجرد خيا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looks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s i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t would ra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لاحظ استخدام              بدلاً من               وهو ماضي غير حقيقي و أنها مجرد توق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154280" y="4267080"/>
            <a:ext cx="4824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s 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53960" y="5510160"/>
            <a:ext cx="3618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85080" y="5486400"/>
            <a:ext cx="6300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ou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79080" y="5029200"/>
            <a:ext cx="4183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92280" y="5029200"/>
            <a:ext cx="51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Purpos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غرض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, so that, in order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se words (conjunctions) link the adverbial clause of purpose with the main sentenc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غرض مع الجملة الرئيسية.</a:t>
            </a: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) We use (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ay + infini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 when the main verb is in the present or futu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نستخدم (</a:t>
            </a:r>
            <a:r>
              <a:rPr b="1" lang="ar-SA" sz="1200" spc="-1" strike="noStrike">
                <a:solidFill>
                  <a:srgbClr val="cc3300"/>
                </a:solidFill>
                <a:latin typeface="Arial"/>
              </a:rPr>
              <a:t>ربما+المصدر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) عندما يكون الفعل الرئيسي في المضارع أو المستقبل</a:t>
            </a: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orks hard.  He wishes to succe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orks hard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so 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in order 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) he may succe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 We use (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ght + infini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 when the main verb is in the simple 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نستخدم (</a:t>
            </a:r>
            <a:r>
              <a:rPr b="1" lang="ar-SA" sz="1200" spc="-1" strike="noStrike">
                <a:solidFill>
                  <a:srgbClr val="cc3300"/>
                </a:solidFill>
                <a:latin typeface="Arial"/>
              </a:rPr>
              <a:t>ربما+المصدر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) عندما يكون الفعل الرئيسي في الماضي البسيط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walking quickly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in order tha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e might not be lat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Resul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نتيج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We us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link the main sentence with the adverbial clause of resul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تستخدم هذه الصيغات لربط الجمل الظرفية الدالة على النتيجة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an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ea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can not wal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wro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u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ood answ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e got he mar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330280" y="2133720"/>
            <a:ext cx="239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o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adverb +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69280" y="2133720"/>
            <a:ext cx="2403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uch + noun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tras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تناقض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ough, alth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trast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تناقض مع الجملة الرئيسي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is poor.  He is hap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oug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he is poor, he is hap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tras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مقارن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….as, so……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trast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مقارنة مع الجملة الرئيسي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beel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lev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fa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i is no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dition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حال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, unl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dition with the main sentenc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حالة مع الجملة الرئيسية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are ill, we go to b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work hard, we will succe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worked hard, we would succe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e had fallen, he would have hurt himsel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nle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he rain falls, the crops will not grow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أكثر م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نلاحظ هنا أهمية كلمة          التي تسبق الصفة المقارنة و يلاحظ إضافة          هذه المرة. </a:t>
            </a:r>
            <a:r>
              <a:rPr b="0" lang="ar-SA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rest is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igh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ountai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ig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ge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uilding in Riyad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فأننا لا نضيف       جدي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 فأننا نقلب ال        إلى        ثم نضيف          كالعا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15840" y="3048120"/>
            <a:ext cx="5036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280240" y="3048120"/>
            <a:ext cx="468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44956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447920" y="2057400"/>
            <a:ext cx="6858000" cy="2286360"/>
            <a:chOff x="1447920" y="2057400"/>
            <a:chExt cx="6858000" cy="2286360"/>
          </a:xfrm>
        </p:grpSpPr>
        <p:sp>
          <p:nvSpPr>
            <p:cNvPr id="126" name=""/>
            <p:cNvSpPr/>
            <p:nvPr/>
          </p:nvSpPr>
          <p:spPr>
            <a:xfrm>
              <a:off x="1447920" y="2057400"/>
              <a:ext cx="6858000" cy="533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800" spc="-1" strike="noStrike">
                  <a:solidFill>
                    <a:srgbClr val="000066"/>
                  </a:solidFill>
                  <a:latin typeface="Tahoma"/>
                </a:rPr>
                <a:t>. Comparing Short Adjectives         </a:t>
              </a:r>
              <a:r>
                <a:rPr b="1" lang="ar-SA" sz="1800" spc="-1" strike="noStrike">
                  <a:solidFill>
                    <a:srgbClr val="000066"/>
                  </a:solidFill>
                  <a:latin typeface="Tahoma"/>
                </a:rPr>
                <a:t>   </a:t>
              </a:r>
              <a:r>
                <a:rPr b="1" lang="ar-SA" sz="1800" spc="-1" strike="noStrike">
                  <a:solidFill>
                    <a:srgbClr val="000066"/>
                  </a:solidFill>
                  <a:latin typeface="Tahoma"/>
                </a:rPr>
                <a:t>مقارنة الصفات القصير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31200" y="4038480"/>
              <a:ext cx="2552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3280" y="4038480"/>
              <a:ext cx="2552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514600" y="5029200"/>
            <a:ext cx="4361760" cy="533520"/>
            <a:chOff x="2514600" y="5029200"/>
            <a:chExt cx="4361760" cy="533520"/>
          </a:xfrm>
        </p:grpSpPr>
        <p:sp>
          <p:nvSpPr>
            <p:cNvPr id="130" name=""/>
            <p:cNvSpPr/>
            <p:nvPr/>
          </p:nvSpPr>
          <p:spPr>
            <a:xfrm>
              <a:off x="2514600" y="556272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3760" y="5029200"/>
              <a:ext cx="46872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34800" y="5029200"/>
              <a:ext cx="2415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10920" y="5029200"/>
              <a:ext cx="2415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94360" y="5029200"/>
              <a:ext cx="1774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…….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مثله مثل [بالضبط ]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as…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ليس مثله مثل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حين وجود مساواة بين حال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drive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ngerously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في حالة </a:t>
            </a: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عدم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وجود مساواة بين حال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mad doe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riv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ngerously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1981080"/>
            <a:ext cx="4572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ثله مثل [بالضبط 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962520"/>
            <a:ext cx="4572000" cy="5331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t 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ليس مثله مث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يقصد بالمبني للمعلوم هو الجملة التي يكون فاعلها معلوما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يقصد بالمبني للمجهول هو الجملة التي يكون فاعلها غير معلوم أو قليل الأهم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هناك عدة أنواع من المبني للمعلوم و المبني للمجهو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ement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جمل الخبرية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ion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أسئلـــــــــــة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and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الأمـــــــــــــر</a:t>
            </a: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broke the window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ذه الجملة مبني للمعلوم              وذلك لأن الفاعل فيها معلوم وهو      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indow was broken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indow was broken (by Ahmed)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ذه الجملة مبني للمجهول              وذلك لأن الفاعل فيها غير معلوم وهو              كما في الجملة الأولى أو وضع مكان المفعول به مسبوقاً بــ           كما في الجملة الثان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7000200" y="5562720"/>
            <a:ext cx="3330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09040" y="3200400"/>
            <a:ext cx="7610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809480" y="3581280"/>
            <a:ext cx="9043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h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21920" y="4952880"/>
            <a:ext cx="925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a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275960" y="5257800"/>
            <a:ext cx="9043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h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للتحويل من المبني للمعلوم              إلى المبني للمجهول             في حالة الجمل الخبرية نتبع الخطوات التالية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المفعول به يصبح فاعلاً.  (يعرف المفعول به بوجوده بعد الفعل مباشرة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نضع فعل           في نفس زمن الجملة مناسباً للمفعول ب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ضع الفعل الأصلي في التصريف الثالث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نضع الفاعل مسبوقاً بــ         وقد يشطب إذا كان ضميرا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أي زيادة في الجملة يوضع كما هو في نهاية الجملة دون تغيي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857200" y="5029200"/>
            <a:ext cx="3330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70960" y="2819520"/>
            <a:ext cx="7610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916680" y="4343400"/>
            <a:ext cx="657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o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65120" y="3200400"/>
            <a:ext cx="925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a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ة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2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29" name=""/>
          <p:cNvGraphicFramePr/>
          <p:nvPr/>
        </p:nvGraphicFramePr>
        <p:xfrm>
          <a:off x="873000" y="3027240"/>
          <a:ext cx="7731000" cy="2768400"/>
        </p:xfrm>
        <a:graphic>
          <a:graphicData uri="http://schemas.openxmlformats.org/drawingml/2006/table">
            <a:tbl>
              <a:tblPr/>
              <a:tblGrid>
                <a:gridCol w="3744000"/>
                <a:gridCol w="398700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e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ني للمعلوم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sive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ني للمجهول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writes letter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ters are written (by Ali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da wrote the lesso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lesson was written (by Huda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eh will buy a ca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will b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ught (by Saleh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haled is helping Ahm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is being helped (by Ali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has eaten the appl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apple has been eaten (by her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7720" y="2668680"/>
            <a:ext cx="7696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صرف فعل                 مع الأزمنة المختلفة كما يلي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506600" y="3164040"/>
          <a:ext cx="7064280" cy="2923920"/>
        </p:xfrm>
        <a:graphic>
          <a:graphicData uri="http://schemas.openxmlformats.org/drawingml/2006/table">
            <a:tbl>
              <a:tblPr/>
              <a:tblGrid>
                <a:gridCol w="5013360"/>
                <a:gridCol w="2050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, is, 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, we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ll be, will b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ستقبل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 being, is being, are be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مستم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 being, were be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مستم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s been, have be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تا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 be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تا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, could be, may be, might be, must be, ought to b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كل فعل مساعد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535440" y="2743200"/>
            <a:ext cx="657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o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هنا تتكون الصفة من أكثر من مقطع، كل مقطع يحتوي على أكثر من حرفين متحركين متباعدين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هذا النوع من الصفات لا يقبل         و لا        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في حالة المقارنة بين شيئين تسبق هذه الصفات كلمة            ثم كلمة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dah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re beautifu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iyad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nch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re difficult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nglis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4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5938920" y="441972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92920" y="4419720"/>
            <a:ext cx="4032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03520" y="3193920"/>
          <a:ext cx="5071680" cy="1008000"/>
        </p:xfrm>
        <a:graphic>
          <a:graphicData uri="http://schemas.openxmlformats.org/drawingml/2006/table">
            <a:tbl>
              <a:tblPr/>
              <a:tblGrid>
                <a:gridCol w="2577600"/>
                <a:gridCol w="249408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autiful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ميل 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fficul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عب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ngerous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خطر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rrec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حيح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ortan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هم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luen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صيح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33640" y="4648320"/>
            <a:ext cx="5950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96960" y="4648320"/>
            <a:ext cx="6865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أكثر م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حالة المقارنة بين أكثر من شيئين تسبق هذه الصفات كلم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al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st beautifu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irl in her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st importa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subject in this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01560" y="3276720"/>
            <a:ext cx="11088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e m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ملاحظــــــــــــ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-43740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el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better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brother at schoo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-43740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girl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wor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ne in her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55800" y="2774880"/>
          <a:ext cx="7481520" cy="2455560"/>
        </p:xfrm>
        <a:graphic>
          <a:graphicData uri="http://schemas.openxmlformats.org/drawingml/2006/table">
            <a:tbl>
              <a:tblPr/>
              <a:tblGrid>
                <a:gridCol w="1496520"/>
                <a:gridCol w="1247040"/>
                <a:gridCol w="2244960"/>
                <a:gridCol w="2493000"/>
              </a:tblGrid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عن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صف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قارنة بين أثن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قارنة بين أكثر من أثن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tt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ي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rs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r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ثير (ل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ثير (لغير ا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r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ليل (لغير ا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es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e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عيد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arth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arth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…….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مثله مثل (بالضبط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as…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ليس مثله مثل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حين وجود مساواة بين صفت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all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bag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a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في حالة </a:t>
            </a: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عدم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وجود مساواة بين صفت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all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bag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a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1981080"/>
            <a:ext cx="4572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ثله مثل (بالضبط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3962520"/>
            <a:ext cx="4572000" cy="5331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t 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ليس مثله مث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-46944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dverb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ways modifies a ver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ظرف يصف الفعل دائ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adverbs are formed by adding         to the adject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عظم الظروف تكوّن بإضافة        للصف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slow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nic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happi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efu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carefu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36400" y="3402000"/>
            <a:ext cx="3193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55520" y="4011480"/>
            <a:ext cx="3193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952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4952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5334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53341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ny kinds of adverb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هناك عدة أنواع من الظروف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manner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how an action wa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الظروف الدالة على السلوك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كيفية وقوع الحدث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losed the window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areful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soldier fought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brave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time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the time when an action is or wa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ظروف الزما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كيفية زمن حدوث الفع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’m going to leave for Cairo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tomorr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’s going to happen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nex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place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when an action i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ظروف 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  <a:cs typeface="Tahoma"/>
              </a:rPr>
              <a:t>المكا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مكان وقوع الحدث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shall stan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’ve looke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verywher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my lost pe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words that end in       can be both adjectives or adverbs.  Most of them refer to tim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بعض الكلمات التي تنتهي بـ        من الممكن أن تكون ظروف أو صفات.  معظم هذه الكلمات تدل على الوقت.    مث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ai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newspaper is publishe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ai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get up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arl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catch an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ar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tra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196440" y="3706920"/>
            <a:ext cx="201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96840" y="4011480"/>
            <a:ext cx="201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87400" y="4202280"/>
          <a:ext cx="5070240" cy="113436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i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ومياً   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ek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بوعياً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nth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هرياً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ar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نوياً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7:29Z</dcterms:created>
  <dc:creator>user</dc:creator>
  <dc:description/>
  <dc:language>en-US</dc:language>
  <cp:lastModifiedBy>user</cp:lastModifiedBy>
  <dcterms:modified xsi:type="dcterms:W3CDTF">2007-07-13T00:17:29Z</dcterms:modified>
  <cp:revision>1</cp:revision>
  <dc:subject/>
  <dc:title>Comparing Adjectives مقارنة الصفات</dc:title>
</cp:coreProperties>
</file>