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07221-040B-4C59-B743-590A7ED0F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F04F9-A0A1-4FD1-87A8-290658DAF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8FB21-ABDF-47C6-8A56-6A1D8B5BE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4AB62-3802-48EF-8D50-62407C78F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90A3E-BBEA-4F52-ADBA-D12F878E3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8C0BB-88E6-49DD-B6B5-04BFBADB3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3BE67-6FF8-4815-A555-33111393D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FF55A-61C9-4E9A-86E9-54D30A19E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DB92F-D984-41C3-96B0-7C8C5D251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EDC07-74CD-485B-AC15-C648B18E6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EE085-907D-4761-91FF-8440D2C69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C62C3-C4C4-4189-B8AF-1424DB561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6B473-463B-4229-9A5A-0B7015030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6FC45-35A1-49E8-9216-F31A4C663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1297A-9E89-42A9-8569-281B670BE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E1267-A1B1-4BC5-8EF0-A474AB78F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4B891-2AE0-4917-ACDE-BE21BE86C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A94FD-F249-42D5-B79F-D2B2E1D04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6BF34-1B2A-488C-8EA2-82D0417C5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49ED9-C6E1-47CE-A74D-79FD774F2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B175C-D6E5-4E16-8392-A3E109714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BCB10-F05B-4556-81F9-253F658DF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EDCB1-A39B-4FBC-81B5-8A11FCF34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F0562-2AAF-437A-8D23-B2E3EDB01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6B7A9-3597-4A31-93B0-BA97910D5F13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DC49A-E473-43A0-A07F-E1971C7EA71F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omparing Adjectives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مقارنة الصفات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2743200"/>
            <a:ext cx="76960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6944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1" lang="ar-SA" sz="1600" spc="-1" strike="noStrike">
                <a:solidFill>
                  <a:srgbClr val="ffff00"/>
                </a:solidFill>
                <a:latin typeface="Arial"/>
              </a:rPr>
              <a:t>. المقارنة بين شيئين أو شخصين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6944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في هذا النوع من المقارنة نلاحظ إضافة اللاحقة        لأغلب الصفات القصيرة ثم كلمة  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69440" indent="0" algn="r" rtl="1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 marL="469440" indent="-469440" algn="r" rtl="1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li is old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e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than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Ahmed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69440" indent="-469440" algn="r" rtl="1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y Car is fast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e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than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your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6944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6944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إذا انتهت الصفة بحرف      فأننا نضيف       فقط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69440" indent="-469440" algn="r" rtl="1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af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e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af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e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tha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69440" indent="-469440" algn="r" rtl="1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impl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e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impl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e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than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69440"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6944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6944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إذا انتهت الصفة بحرف       فأننا نقلب ال        إلى        ثم نضيف          كالعادة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69440" indent="0" algn="r" rtl="1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 marL="469440" indent="-469440" algn="r" rtl="1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as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y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as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ie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tha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69440" indent="-469440" algn="r" rtl="1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eav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y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eav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ie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than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6944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  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6944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6944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590920" y="2057400"/>
            <a:ext cx="4952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. Present Continuous Tense                   </a:t>
            </a:r>
            <a:r>
              <a:rPr b="0" lang="ar-SA" sz="20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ar-SA" sz="2000" spc="-1" strike="noStrike">
                <a:solidFill>
                  <a:srgbClr val="000066"/>
                </a:solidFill>
                <a:latin typeface="Tahoma"/>
              </a:rPr>
              <a:t>المضارع المستمر</a:t>
            </a:r>
            <a:r>
              <a:rPr b="0" lang="ar-SA" sz="18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           </a:t>
            </a:r>
            <a:r>
              <a:rPr b="0" lang="ar-SA" sz="1800" spc="-1" strike="noStrike">
                <a:solidFill>
                  <a:srgbClr val="000066"/>
                </a:solidFill>
                <a:latin typeface="Tahoma"/>
              </a:rPr>
              <a:t>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15040" y="2971800"/>
            <a:ext cx="360360" cy="30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572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>
            <a:hlinkClick r:id="" action="ppaction://hlinkshowjump?jump=nextslide"/>
          </p:cNvPr>
          <p:cNvSpPr/>
          <p:nvPr/>
        </p:nvSpPr>
        <p:spPr>
          <a:xfrm>
            <a:off x="57150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3794"/>
                </a:moveTo>
                <a:lnTo>
                  <a:pt x="19969" y="10800"/>
                </a:lnTo>
                <a:lnTo>
                  <a:pt x="5956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تالي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447920" y="2057400"/>
            <a:ext cx="6858000" cy="53352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. Comparing Short Adjectives      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مقارنة الصفات القصير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126440" y="2971800"/>
            <a:ext cx="660600" cy="30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572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tha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514600" y="4419720"/>
            <a:ext cx="12193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514600" y="4648320"/>
            <a:ext cx="12193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514600" y="5715000"/>
            <a:ext cx="12193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14600" y="5943600"/>
            <a:ext cx="12193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631200" y="3962520"/>
            <a:ext cx="255240" cy="30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572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410080" y="3962520"/>
            <a:ext cx="217080" cy="30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572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967120" y="5181480"/>
            <a:ext cx="360360" cy="30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572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558480" y="5181480"/>
            <a:ext cx="241560" cy="30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572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110920" y="5181480"/>
            <a:ext cx="241560" cy="30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572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270320" y="5181480"/>
            <a:ext cx="177480" cy="30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572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Adverbs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ظروف [الأحوال]     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143000" y="1904760"/>
            <a:ext cx="76960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Adverbs of frequency</a:t>
            </a:r>
            <a:r>
              <a:rPr b="1" lang="ar-SA" sz="1600" spc="-1" strike="noStrike">
                <a:solidFill>
                  <a:srgbClr val="ffff00"/>
                </a:solidFill>
                <a:latin typeface="Arial"/>
              </a:rPr>
              <a:t>: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tell how often we do something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00"/>
                </a:solidFill>
                <a:latin typeface="Arial"/>
              </a:rPr>
              <a:t>الظروف الدالة على التكرار</a:t>
            </a: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 :التي تخبرنا عن عدد مرات حدوث الشيء. ومن هذه الظروف: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00"/>
                </a:solidFill>
                <a:uFillTx/>
                <a:latin typeface="Arial"/>
              </a:rPr>
              <a:t>Verb to BE</a:t>
            </a:r>
            <a:r>
              <a:rPr b="0" lang="en-US" sz="1800" spc="-1" strike="noStrike" u="sng">
                <a:solidFill>
                  <a:srgbClr val="ffff00"/>
                </a:solidFill>
                <a:uFillTx/>
                <a:latin typeface="Arial"/>
              </a:rPr>
              <a:t>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ffff00"/>
                </a:solidFill>
                <a:latin typeface="Arial"/>
              </a:rPr>
              <a:t>فعل يكون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: يأتي ظرف التكرار بعد الفعل المساعد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li is 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alway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on tim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00"/>
                </a:solidFill>
                <a:uFillTx/>
                <a:latin typeface="Arial"/>
              </a:rPr>
              <a:t>Other Verbs</a:t>
            </a:r>
            <a:r>
              <a:rPr b="0" lang="en-US" sz="1800" spc="-1" strike="noStrike" u="sng">
                <a:solidFill>
                  <a:srgbClr val="ffff00"/>
                </a:solidFill>
                <a:uFillTx/>
                <a:latin typeface="Arial"/>
              </a:rPr>
              <a:t>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ffff00"/>
                </a:solidFill>
                <a:latin typeface="Arial"/>
              </a:rPr>
              <a:t>الأفعال الأخرى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: يأتي ظرف التكرار قبل الفعل العادي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li 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ometim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reads a book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08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211" name=""/>
          <p:cNvGraphicFramePr/>
          <p:nvPr/>
        </p:nvGraphicFramePr>
        <p:xfrm>
          <a:off x="1954080" y="2608200"/>
          <a:ext cx="5070240" cy="1423800"/>
        </p:xfrm>
        <a:graphic>
          <a:graphicData uri="http://schemas.openxmlformats.org/drawingml/2006/table">
            <a:tbl>
              <a:tblPr/>
              <a:tblGrid>
                <a:gridCol w="2576880"/>
                <a:gridCol w="2493360"/>
              </a:tblGrid>
              <a:tr h="366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lways</a:t>
                      </a:r>
                      <a:r>
                        <a:rPr b="0" lang="ar-SA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دائماً                   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often</a:t>
                      </a:r>
                      <a:r>
                        <a:rPr b="0" lang="ar-SA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غالباً                         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52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usually</a:t>
                      </a:r>
                      <a:r>
                        <a:rPr b="0" lang="ar-SA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عادة                   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ometimes</a:t>
                      </a:r>
                      <a:r>
                        <a:rPr b="0" lang="ar-SA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أحياناً                 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5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eldom</a:t>
                      </a:r>
                      <a:r>
                        <a:rPr b="0" lang="ar-SA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نادراً                   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Rarely</a:t>
                      </a:r>
                      <a:r>
                        <a:rPr b="0" lang="ar-SA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نادراً جداً                   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5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Never</a:t>
                      </a:r>
                      <a:r>
                        <a:rPr b="0" lang="ar-SA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أبداً                      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Occasionally</a:t>
                      </a:r>
                      <a:r>
                        <a:rPr b="0" lang="ar-SA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من حي لآخر       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2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dverbial Clause of Time</a:t>
            </a:r>
            <a:br>
              <a:rPr sz="3200"/>
            </a:br>
            <a:r>
              <a:rPr b="0" lang="ar-SA" sz="3200" spc="-1" strike="noStrike">
                <a:solidFill>
                  <a:srgbClr val="ffff00"/>
                </a:solidFill>
                <a:latin typeface="Arial"/>
              </a:rPr>
              <a:t>الجمل الظرفية الدالة على الوقت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43000" y="2133360"/>
            <a:ext cx="76960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onjunction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  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أدوات الربط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en, whenever, as, as soon as, while, after, before, until, si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9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hese words (conjunctions) link the adverbial clause of time with the main sentence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أدوات الربط هذه تربط الجمل الظرفية الدالة على الوقت مع الجملة الرئيسية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ffffff"/>
                </a:solidFill>
                <a:uFillTx/>
                <a:latin typeface="Arial"/>
              </a:rPr>
              <a:t>مثال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 found a watch.  I was walking in the stree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 found a watch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il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 was walking in the stree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16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9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dverbial Clause of Place</a:t>
            </a:r>
            <a:br>
              <a:rPr sz="3200"/>
            </a:br>
            <a:r>
              <a:rPr b="0" lang="ar-SA" sz="3200" spc="-1" strike="noStrike">
                <a:solidFill>
                  <a:srgbClr val="ffff00"/>
                </a:solidFill>
                <a:latin typeface="Arial"/>
              </a:rPr>
              <a:t>الجمل الظرفية الدالة على المكان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143000" y="2133360"/>
            <a:ext cx="76960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onjunction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   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أدوات الربط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ere, wherev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9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hese words (conjunctions) link the adverbial clause of place with the main sentence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أدوات الربط هذه تربط الجمل الظرفية الدالة على المكان مع الجملة الرئيسية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ffffff"/>
                </a:solidFill>
                <a:uFillTx/>
                <a:latin typeface="Arial"/>
              </a:rPr>
              <a:t>مثال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erever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 goes his brother follows hi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23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6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dverbial Clause of Cause</a:t>
            </a:r>
            <a:br>
              <a:rPr sz="3200"/>
            </a:br>
            <a:r>
              <a:rPr b="0" lang="ar-SA" sz="3200" spc="-1" strike="noStrike">
                <a:solidFill>
                  <a:srgbClr val="ffff00"/>
                </a:solidFill>
                <a:latin typeface="Arial"/>
              </a:rPr>
              <a:t>الجمل الظرفية الدالة على السبب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143000" y="2133360"/>
            <a:ext cx="76960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onjunction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   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أدوات الربط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ecause, since, 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9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hese words (conjunctions) link the adverbial clause of cause with the main sentence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أدوات الربط هذه تربط الجمل الظرفية الدالة على السبب مع الجملة الرئيسية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ffffff"/>
                </a:solidFill>
                <a:uFillTx/>
                <a:latin typeface="Arial"/>
              </a:rPr>
              <a:t>مثال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 stayed at home yesterday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ecaus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it was rain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30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3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dverbial Clause of Manner</a:t>
            </a:r>
            <a:br>
              <a:rPr sz="3200"/>
            </a:br>
            <a:r>
              <a:rPr b="0" lang="ar-SA" sz="3200" spc="-1" strike="noStrike">
                <a:solidFill>
                  <a:srgbClr val="ffff00"/>
                </a:solidFill>
                <a:latin typeface="Arial"/>
              </a:rPr>
              <a:t>الجمل الظرفية الدالة على السلوك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143000" y="2133360"/>
            <a:ext cx="76960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Conjunction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   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أدوات الربط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s, as if, as throug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90000"/>
              </a:lnSpc>
              <a:spcBef>
                <a:spcPts val="34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hese words (conjunctions) link the adverbial clause of manner with the main sentence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أدوات الربط هذه تربط الجمل الظرفية الدالة على السلوك مع الجملة الرئيسية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دائماً يأتي بعد            ماضي غير حقيقي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ffffff"/>
                </a:solidFill>
                <a:uFillTx/>
                <a:latin typeface="Arial"/>
              </a:rPr>
              <a:t>مثال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90000"/>
              </a:lnSpc>
              <a:spcBef>
                <a:spcPts val="34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e speaks </a:t>
            </a: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s if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he were a king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لاحظ استخدام              بدلاً من              لأنها غير حقيقية و مجرد خيال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90000"/>
              </a:lnSpc>
              <a:spcBef>
                <a:spcPts val="34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t looks </a:t>
            </a: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s if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it would rain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لاحظ استخدام              بدلاً من               وهو ماضي غير حقيقي و أنها مجرد توقع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37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7154280" y="4267080"/>
            <a:ext cx="48240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572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as i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853960" y="5510160"/>
            <a:ext cx="36180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572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Tahoma"/>
              </a:rPr>
              <a:t>wi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985080" y="5486400"/>
            <a:ext cx="63000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572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Tahoma"/>
              </a:rPr>
              <a:t>woul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779080" y="5029200"/>
            <a:ext cx="41832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572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Tahoma"/>
              </a:rPr>
              <a:t>wa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992280" y="5029200"/>
            <a:ext cx="51876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572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Tahoma"/>
              </a:rPr>
              <a:t>w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dverbial Clause of Purpose</a:t>
            </a:r>
            <a:br>
              <a:rPr sz="3200"/>
            </a:br>
            <a:r>
              <a:rPr b="0" lang="ar-SA" sz="3200" spc="-1" strike="noStrike">
                <a:solidFill>
                  <a:srgbClr val="ffff00"/>
                </a:solidFill>
                <a:latin typeface="Arial"/>
              </a:rPr>
              <a:t>الجمل الظرفية الدالة على الغرض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143000" y="21337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Conjunction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   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أدوات الربط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at, so that, in order th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hese words (conjunctions) link the adverbial clause of purpose with the main sentence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Arial"/>
              </a:rPr>
              <a:t>أدوات الربط هذه تربط الجمل الظرفية الدالة على الغرض مع الجملة الرئيسية.</a:t>
            </a:r>
            <a:r>
              <a:rPr b="0" lang="ar-SA" sz="1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) We use (</a:t>
            </a: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may + infinitiv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) when the main verb is in the present or futur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Arial"/>
              </a:rPr>
              <a:t>نستخدم (</a:t>
            </a:r>
            <a:r>
              <a:rPr b="1" lang="ar-SA" sz="1200" spc="-1" strike="noStrike">
                <a:solidFill>
                  <a:srgbClr val="cc3300"/>
                </a:solidFill>
                <a:latin typeface="Arial"/>
              </a:rPr>
              <a:t>ربما+المصدر</a:t>
            </a:r>
            <a:r>
              <a:rPr b="0" lang="ar-SA" sz="1200" spc="-1" strike="noStrike">
                <a:solidFill>
                  <a:srgbClr val="ffffff"/>
                </a:solidFill>
                <a:latin typeface="Arial"/>
              </a:rPr>
              <a:t>) عندما يكون الفعل الرئيسي في المضارع أو المستقبل</a:t>
            </a:r>
            <a:r>
              <a:rPr b="0" lang="ar-SA" sz="1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 u="sng">
                <a:solidFill>
                  <a:srgbClr val="ffffff"/>
                </a:solidFill>
                <a:uFillTx/>
                <a:latin typeface="Arial"/>
              </a:rPr>
              <a:t>مثال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spcBef>
                <a:spcPts val="3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e works hard.  He wishes to succeed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spcBef>
                <a:spcPts val="3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e works hard </a:t>
            </a: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so that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that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or </a:t>
            </a: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in order that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) he may succeed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) We use (</a:t>
            </a: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might + infinitiv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) when the main verb is in the simple past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Arial"/>
              </a:rPr>
              <a:t>نستخدم (</a:t>
            </a:r>
            <a:r>
              <a:rPr b="1" lang="ar-SA" sz="1200" spc="-1" strike="noStrike">
                <a:solidFill>
                  <a:srgbClr val="cc3300"/>
                </a:solidFill>
                <a:latin typeface="Arial"/>
              </a:rPr>
              <a:t>ربما+المصدر</a:t>
            </a:r>
            <a:r>
              <a:rPr b="0" lang="ar-SA" sz="1200" spc="-1" strike="noStrike">
                <a:solidFill>
                  <a:srgbClr val="ffffff"/>
                </a:solidFill>
                <a:latin typeface="Arial"/>
              </a:rPr>
              <a:t>) عندما يكون الفعل الرئيسي في الماضي البسيط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 u="sng">
                <a:solidFill>
                  <a:srgbClr val="ffffff"/>
                </a:solidFill>
                <a:uFillTx/>
                <a:latin typeface="Arial"/>
              </a:rPr>
              <a:t>مثال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spcBef>
                <a:spcPts val="3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e was walking quickly </a:t>
            </a: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in order that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he might not be late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49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2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dverbial Clause of Result</a:t>
            </a:r>
            <a:br>
              <a:rPr sz="3200"/>
            </a:br>
            <a:r>
              <a:rPr b="0" lang="ar-SA" sz="3200" spc="-1" strike="noStrike">
                <a:solidFill>
                  <a:srgbClr val="ffff00"/>
                </a:solidFill>
                <a:latin typeface="Arial"/>
              </a:rPr>
              <a:t>الجمل الظرفية الدالة على النتيجة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43000" y="2133360"/>
            <a:ext cx="76960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We use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link the main sentence with the adverbial clause of result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تستخدم هذه الصيغات لربط الجمل الظرفية الدالة على النتيجة مع الجملة الرئيسية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ffffff"/>
                </a:solidFill>
                <a:uFillTx/>
                <a:latin typeface="Arial"/>
              </a:rPr>
              <a:t>مثال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man is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o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weak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that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 can not walk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 wrote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uc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good answer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a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he got he mark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56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9" name=""/>
          <p:cNvSpPr/>
          <p:nvPr/>
        </p:nvSpPr>
        <p:spPr>
          <a:xfrm>
            <a:off x="2330280" y="2133720"/>
            <a:ext cx="23965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so </a:t>
            </a:r>
            <a:r>
              <a:rPr b="0" lang="ar-SA" sz="2000" spc="-1" strike="noStrike">
                <a:solidFill>
                  <a:srgbClr val="cc3300"/>
                </a:solidFill>
                <a:latin typeface="Tahoma"/>
              </a:rPr>
              <a:t>+</a:t>
            </a: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 adverb + th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669280" y="2133720"/>
            <a:ext cx="24030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such + noun</a:t>
            </a:r>
            <a:r>
              <a:rPr b="0" lang="ar-SA" sz="2000" spc="-1" strike="noStrike">
                <a:solidFill>
                  <a:srgbClr val="cc3300"/>
                </a:solidFill>
                <a:latin typeface="Tahoma"/>
              </a:rPr>
              <a:t>+</a:t>
            </a: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 th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dverbial Clause of Contrast</a:t>
            </a:r>
            <a:br>
              <a:rPr sz="3200"/>
            </a:br>
            <a:r>
              <a:rPr b="0" lang="ar-SA" sz="3200" spc="-1" strike="noStrike">
                <a:solidFill>
                  <a:srgbClr val="ffff00"/>
                </a:solidFill>
                <a:latin typeface="Arial"/>
              </a:rPr>
              <a:t>الجمل الظرفية الدالة على التناقض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143000" y="2133360"/>
            <a:ext cx="76960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onjunction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   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أدوات الربط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ough, althoug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9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hese words (conjunctions) link the adverbial clause of contrast with the main sentence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أدوات الربط هذه تربط الجمل الظرفية الدالة على التناقض مع الجملة الرئيسية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ffffff"/>
                </a:solidFill>
                <a:uFillTx/>
                <a:latin typeface="Arial"/>
              </a:rPr>
              <a:t>مثال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 is poor.  He is happ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lthough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ough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 he is poor, he is happ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4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65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8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dverbial Clause of Contrast</a:t>
            </a:r>
            <a:br>
              <a:rPr sz="3200"/>
            </a:br>
            <a:r>
              <a:rPr b="0" lang="ar-SA" sz="3200" spc="-1" strike="noStrike">
                <a:solidFill>
                  <a:srgbClr val="ffff00"/>
                </a:solidFill>
                <a:latin typeface="Arial"/>
              </a:rPr>
              <a:t>الجمل الظرفية الدالة على المقارنة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143000" y="2133360"/>
            <a:ext cx="76960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onjunction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   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أدوات الربط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s….as, so……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9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hese words (conjunctions) link the adverbial clause of contrast with the main sentence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أدوات الربط هذه تربط الجمل الظرفية الدالة على المقارنة مع الجملة الرئيسية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ffffff"/>
                </a:solidFill>
                <a:uFillTx/>
                <a:latin typeface="Arial"/>
              </a:rPr>
              <a:t>مثال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abeel i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clever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his fathe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ami is not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strong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his brothe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72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5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dverbial Clause of Condition</a:t>
            </a:r>
            <a:br>
              <a:rPr sz="3200"/>
            </a:br>
            <a:r>
              <a:rPr b="0" lang="ar-SA" sz="3200" spc="-1" strike="noStrike">
                <a:solidFill>
                  <a:srgbClr val="ffff00"/>
                </a:solidFill>
                <a:latin typeface="Arial"/>
              </a:rPr>
              <a:t>الجمل الظرفية الدالة على الحالة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143000" y="2133360"/>
            <a:ext cx="76960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Conjunction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   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أدوات الربط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f, unle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hese words (conjunctions) link the adverbial clause of condition with the main sentence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أدوات الربط هذه تربط الجمل الظرفية الدالة على الحالة مع الجملة الرئيسية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ffffff"/>
                </a:solidFill>
                <a:uFillTx/>
                <a:latin typeface="Arial"/>
              </a:rPr>
              <a:t>مثال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we are ill, we go to bed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we work hard, we will succeed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we worked hard, we would succeed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he had fallen, he would have hurt himself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Unles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the rain falls, the crops will not grow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>
            <a:hlinkClick r:id="" action="ppaction://hlinkshowjump?jump=previousslide"/>
          </p:cNvPr>
          <p:cNvSpPr/>
          <p:nvPr/>
        </p:nvSpPr>
        <p:spPr>
          <a:xfrm>
            <a:off x="36576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10800"/>
                </a:moveTo>
                <a:lnTo>
                  <a:pt x="19969" y="3794"/>
                </a:lnTo>
                <a:lnTo>
                  <a:pt x="19969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ساب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>
            <a:hlinkClick r:id="" action="ppaction://hlinkshowjump?jump=nextslide"/>
          </p:cNvPr>
          <p:cNvSpPr/>
          <p:nvPr/>
        </p:nvSpPr>
        <p:spPr>
          <a:xfrm>
            <a:off x="57150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3794"/>
                </a:moveTo>
                <a:lnTo>
                  <a:pt x="19969" y="10800"/>
                </a:lnTo>
                <a:lnTo>
                  <a:pt x="5956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تالي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1143000" y="2743200"/>
            <a:ext cx="76960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1" lang="ar-SA" sz="1600" spc="-1" strike="noStrike">
                <a:solidFill>
                  <a:srgbClr val="ffff00"/>
                </a:solidFill>
                <a:latin typeface="Arial"/>
              </a:rPr>
              <a:t>. المقارنة بين أكثر من شيئين أو شخصين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نلاحظ هنا أهمية كلمة          التي تسبق الصفة المقارنة و يلاحظ إضافة          هذه المرة. </a:t>
            </a:r>
            <a:r>
              <a:rPr b="0" lang="ar-SA" sz="5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verest is 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the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high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es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mountain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is is 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the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big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ges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building in Riyadh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إذا انتهت الصفة بحرف      فأننا لا نضيف       جديدة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af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e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the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saf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es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إذا انتهت الصفة بحرف       فأننا نقلب ال        إلى        ثم نضيف          كالعادة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as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y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the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eas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ies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  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590920" y="2057400"/>
            <a:ext cx="4952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. Present Continuous Tense                   </a:t>
            </a:r>
            <a:r>
              <a:rPr b="0" lang="ar-SA" sz="20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ar-SA" sz="2000" spc="-1" strike="noStrike">
                <a:solidFill>
                  <a:srgbClr val="000066"/>
                </a:solidFill>
                <a:latin typeface="Tahoma"/>
              </a:rPr>
              <a:t>المضارع المستمر</a:t>
            </a:r>
            <a:r>
              <a:rPr b="0" lang="ar-SA" sz="18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           </a:t>
            </a:r>
            <a:r>
              <a:rPr b="0" lang="ar-SA" sz="1800" spc="-1" strike="noStrike">
                <a:solidFill>
                  <a:srgbClr val="000066"/>
                </a:solidFill>
                <a:latin typeface="Tahoma"/>
              </a:rPr>
              <a:t>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315840" y="3048120"/>
            <a:ext cx="503640" cy="30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572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th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120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3" name=""/>
          <p:cNvSpPr/>
          <p:nvPr/>
        </p:nvSpPr>
        <p:spPr>
          <a:xfrm>
            <a:off x="2280240" y="3048120"/>
            <a:ext cx="468720" cy="30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572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e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514600" y="4495680"/>
            <a:ext cx="12193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1447920" y="2057400"/>
            <a:ext cx="6858000" cy="2286360"/>
            <a:chOff x="1447920" y="2057400"/>
            <a:chExt cx="6858000" cy="2286360"/>
          </a:xfrm>
        </p:grpSpPr>
        <p:sp>
          <p:nvSpPr>
            <p:cNvPr id="126" name=""/>
            <p:cNvSpPr/>
            <p:nvPr/>
          </p:nvSpPr>
          <p:spPr>
            <a:xfrm>
              <a:off x="1447920" y="2057400"/>
              <a:ext cx="6858000" cy="533520"/>
            </a:xfrm>
            <a:prstGeom prst="roundRect">
              <a:avLst>
                <a:gd name="adj" fmla="val 16667"/>
              </a:avLst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800" spc="-1" strike="noStrike">
                  <a:solidFill>
                    <a:srgbClr val="000066"/>
                  </a:solidFill>
                  <a:latin typeface="Tahoma"/>
                </a:rPr>
                <a:t>. Comparing Short Adjectives         </a:t>
              </a:r>
              <a:r>
                <a:rPr b="1" lang="ar-SA" sz="1800" spc="-1" strike="noStrike">
                  <a:solidFill>
                    <a:srgbClr val="000066"/>
                  </a:solidFill>
                  <a:latin typeface="Tahoma"/>
                </a:rPr>
                <a:t>   </a:t>
              </a:r>
              <a:r>
                <a:rPr b="1" lang="ar-SA" sz="1800" spc="-1" strike="noStrike">
                  <a:solidFill>
                    <a:srgbClr val="000066"/>
                  </a:solidFill>
                  <a:latin typeface="Tahoma"/>
                </a:rPr>
                <a:t>مقارنة الصفات القصيرة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631200" y="4038480"/>
              <a:ext cx="255240" cy="30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4572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3300"/>
                  </a:solidFill>
                  <a:latin typeface="Tahoma"/>
                </a:rPr>
                <a:t> </a:t>
              </a:r>
              <a:r>
                <a:rPr b="0" lang="en-US" sz="2000" spc="-1" strike="noStrike">
                  <a:solidFill>
                    <a:srgbClr val="cc3300"/>
                  </a:solidFill>
                  <a:latin typeface="Tahoma"/>
                </a:rPr>
                <a:t>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3280" y="4038480"/>
              <a:ext cx="255240" cy="30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4572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3300"/>
                  </a:solidFill>
                  <a:latin typeface="Tahoma"/>
                </a:rPr>
                <a:t> </a:t>
              </a:r>
              <a:r>
                <a:rPr b="0" lang="en-US" sz="2000" spc="-1" strike="noStrike">
                  <a:solidFill>
                    <a:srgbClr val="cc3300"/>
                  </a:solidFill>
                  <a:latin typeface="Tahoma"/>
                </a:rPr>
                <a:t>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514600" y="5029200"/>
            <a:ext cx="4361760" cy="533520"/>
            <a:chOff x="2514600" y="5029200"/>
            <a:chExt cx="4361760" cy="533520"/>
          </a:xfrm>
        </p:grpSpPr>
        <p:sp>
          <p:nvSpPr>
            <p:cNvPr id="130" name=""/>
            <p:cNvSpPr/>
            <p:nvPr/>
          </p:nvSpPr>
          <p:spPr>
            <a:xfrm>
              <a:off x="2514600" y="5562720"/>
              <a:ext cx="12193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813760" y="5029200"/>
              <a:ext cx="468720" cy="30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4572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3300"/>
                  </a:solidFill>
                  <a:latin typeface="Tahoma"/>
                </a:rPr>
                <a:t> </a:t>
              </a:r>
              <a:r>
                <a:rPr b="0" lang="en-US" sz="2000" spc="-1" strike="noStrike">
                  <a:solidFill>
                    <a:srgbClr val="cc3300"/>
                  </a:solidFill>
                  <a:latin typeface="Tahoma"/>
                </a:rPr>
                <a:t>est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634800" y="5029200"/>
              <a:ext cx="241560" cy="30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4572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3300"/>
                  </a:solidFill>
                  <a:latin typeface="Tahoma"/>
                </a:rPr>
                <a:t> </a:t>
              </a:r>
              <a:r>
                <a:rPr b="0" lang="en-US" sz="2000" spc="-1" strike="noStrike">
                  <a:solidFill>
                    <a:srgbClr val="cc3300"/>
                  </a:solidFill>
                  <a:latin typeface="Tahoma"/>
                </a:rPr>
                <a:t>y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110920" y="5029200"/>
              <a:ext cx="241560" cy="30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4572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3300"/>
                  </a:solidFill>
                  <a:latin typeface="Tahoma"/>
                </a:rPr>
                <a:t> </a:t>
              </a:r>
              <a:r>
                <a:rPr b="0" lang="en-US" sz="2000" spc="-1" strike="noStrike">
                  <a:solidFill>
                    <a:srgbClr val="cc3300"/>
                  </a:solidFill>
                  <a:latin typeface="Tahoma"/>
                </a:rPr>
                <a:t>y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194360" y="5029200"/>
              <a:ext cx="177480" cy="30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4572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3300"/>
                  </a:solidFill>
                  <a:latin typeface="Tahoma"/>
                </a:rPr>
                <a:t> </a:t>
              </a:r>
              <a:r>
                <a:rPr b="0" lang="en-US" sz="2000" spc="-1" strike="noStrike">
                  <a:solidFill>
                    <a:srgbClr val="cc3300"/>
                  </a:solidFill>
                  <a:latin typeface="Tahoma"/>
                </a:rPr>
                <a:t>i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5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omparing Adjectives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مقارنة الصفات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s……..as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     </a:t>
            </a:r>
            <a:r>
              <a:rPr b="0" lang="ar-SA" sz="2800" spc="-1" strike="noStrike">
                <a:solidFill>
                  <a:srgbClr val="ffff00"/>
                </a:solidFill>
                <a:latin typeface="Arial"/>
              </a:rPr>
              <a:t> مثله مثل [بالضبط ]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2800"/>
            </a:br>
            <a:r>
              <a:rPr b="0" lang="ar-SA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not as….as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2800" spc="-1" strike="noStrike">
                <a:solidFill>
                  <a:srgbClr val="ffff00"/>
                </a:solidFill>
                <a:latin typeface="Arial"/>
              </a:rPr>
              <a:t>ليس مثله مثل    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0" lang="ar-SA" sz="2800" spc="-1" strike="noStrike">
                <a:solidFill>
                  <a:srgbClr val="ffff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219320" y="2438280"/>
            <a:ext cx="76960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r" rtl="1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يستخدم هذا الاصطلاح حين وجود مساواة بين حالين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hmed drives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as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angerously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 a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his brothe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يستخدم هذا الاصطلاح في حالة </a:t>
            </a:r>
            <a:r>
              <a:rPr b="0" lang="ar-SA" sz="2000" spc="-1" strike="noStrike" u="sng">
                <a:solidFill>
                  <a:srgbClr val="ffffff"/>
                </a:solidFill>
                <a:uFillTx/>
                <a:latin typeface="Arial"/>
              </a:rPr>
              <a:t>عدم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 وجود مساواة بين حالين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amad does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no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drive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as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angerously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 a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his brothe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>
            <a:hlinkClick r:id="" action="ppaction://hlinkshowjump?jump=previousslide"/>
          </p:cNvPr>
          <p:cNvSpPr/>
          <p:nvPr/>
        </p:nvSpPr>
        <p:spPr>
          <a:xfrm>
            <a:off x="36576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10800"/>
                </a:moveTo>
                <a:lnTo>
                  <a:pt x="19969" y="3794"/>
                </a:lnTo>
                <a:lnTo>
                  <a:pt x="19969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ساب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2895480" y="1981080"/>
            <a:ext cx="4572000" cy="53352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as……..as   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مثله مثل [بالضبط ]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962520"/>
            <a:ext cx="4572000" cy="53316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not as……..as   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ليس مثله مثل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ctive &amp; Passive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ffff00"/>
                </a:solidFill>
                <a:latin typeface="Arial"/>
              </a:rPr>
              <a:t>المبني للمعلوم و المبني للمجهول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43000" y="2133360"/>
            <a:ext cx="76960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00"/>
                </a:solidFill>
                <a:latin typeface="Arial"/>
              </a:rPr>
              <a:t>يقصد بالمبني للمعلوم هو الجملة التي يكون فاعلها معلوما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00"/>
                </a:solidFill>
                <a:latin typeface="Arial"/>
              </a:rPr>
              <a:t>يقصد بالمبني للمجهول هو الجملة التي يكون فاعلها غير معلوم أو قليل الأهمية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00"/>
                </a:solidFill>
                <a:latin typeface="Arial"/>
              </a:rPr>
              <a:t>هناك عدة أنواع من المبني للمعلوم و المبني للمجهول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tatement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لجمل الخبرية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Question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لأسئلـــــــــــة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mmand</a:t>
            </a: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    الأمـــــــــــــر</a:t>
            </a:r>
            <a:r>
              <a:rPr b="1" lang="ar-SA" sz="2000" spc="-1" strike="noStrike">
                <a:solidFill>
                  <a:srgbClr val="ffff00"/>
                </a:solidFill>
                <a:latin typeface="Arial"/>
              </a:rPr>
              <a:t>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590920" y="2057400"/>
            <a:ext cx="4952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>
            <a:hlinkClick r:id="" action="ppaction://hlinkshowjump?jump=nextslide"/>
          </p:cNvPr>
          <p:cNvSpPr/>
          <p:nvPr/>
        </p:nvSpPr>
        <p:spPr>
          <a:xfrm>
            <a:off x="57150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3794"/>
                </a:moveTo>
                <a:lnTo>
                  <a:pt x="19969" y="10800"/>
                </a:lnTo>
                <a:lnTo>
                  <a:pt x="5956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تالي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ctive &amp; Passive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ffff00"/>
                </a:solidFill>
                <a:latin typeface="Arial"/>
              </a:rPr>
              <a:t>المبني للمعلوم و المبني للمجهول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143000" y="2742840"/>
            <a:ext cx="76960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hmed broke the window yesterda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2272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هذه الجملة مبني للمعلوم              وذلك لأن الفاعل فيها معلوم وهو              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2272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______________________________________________________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2272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window was broken yesterda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2272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window was broken (by Ahmed) yesterda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2272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هذه الجملة مبني للمجهول              وذلك لأن الفاعل فيها غير معلوم وهو              كما في الجملة الأولى أو وضع مكان المفعول به مسبوقاً بــ           كما في الجملة الثانية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2272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2590920" y="2057400"/>
            <a:ext cx="4952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99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7000200" y="5562720"/>
            <a:ext cx="333000" cy="30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572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b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5009040" y="3200400"/>
            <a:ext cx="761040" cy="30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572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Activ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7809480" y="3581280"/>
            <a:ext cx="904320" cy="30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572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Ahm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921920" y="4952880"/>
            <a:ext cx="925920" cy="30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572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Passiv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7275960" y="5257800"/>
            <a:ext cx="904320" cy="30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572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Ahm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895480" y="2057400"/>
            <a:ext cx="4038840" cy="53352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.  Statements      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الجمل الخبر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ctive &amp; Passive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ffff00"/>
                </a:solidFill>
                <a:latin typeface="Arial"/>
              </a:rPr>
              <a:t>المبني للمعلوم و المبني للمجهول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143000" y="2742840"/>
            <a:ext cx="76960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Arial"/>
              </a:rPr>
              <a:t>للتحويل من المبني للمعلوم              إلى المبني للمجهول             في حالة الجمل الخبرية نتبع الخطوات التالية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 المفعول به يصبح فاعلاً.  (يعرف المفعول به بوجوده بعد الفعل مباشرة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 نضع فعل           في نفس زمن الجملة مناسباً للمفعول به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 ضع الفعل الأصلي في التصريف الثالث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 نضع الفاعل مسبوقاً بــ         وقد يشطب إذا كان ضميرا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 أي زيادة في الجملة يوضع كما هو في نهاية الجملة دون تغيير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590920" y="2057400"/>
            <a:ext cx="4952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313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6" name=""/>
          <p:cNvSpPr/>
          <p:nvPr/>
        </p:nvSpPr>
        <p:spPr>
          <a:xfrm>
            <a:off x="5857200" y="5029200"/>
            <a:ext cx="333000" cy="30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572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b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4170960" y="2819520"/>
            <a:ext cx="761040" cy="30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572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Activ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6916680" y="4343400"/>
            <a:ext cx="657720" cy="30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572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to b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7665120" y="3200400"/>
            <a:ext cx="925920" cy="30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572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Passiv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2895480" y="2057400"/>
            <a:ext cx="4038840" cy="53352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.  Statements      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الجمل الخبر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ctive &amp; Passive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ffff00"/>
                </a:solidFill>
                <a:latin typeface="Arial"/>
              </a:rPr>
              <a:t>المبني للمعلوم و المبني للمجهول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43000" y="2743200"/>
            <a:ext cx="7696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-1" strike="noStrike" u="sng">
                <a:solidFill>
                  <a:srgbClr val="ffffff"/>
                </a:solidFill>
                <a:uFillTx/>
                <a:latin typeface="Arial"/>
              </a:rPr>
              <a:t>أمثلـــــــــــــــــــة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2590920" y="2057400"/>
            <a:ext cx="4952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326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329" name=""/>
          <p:cNvGraphicFramePr/>
          <p:nvPr/>
        </p:nvGraphicFramePr>
        <p:xfrm>
          <a:off x="873000" y="3027240"/>
          <a:ext cx="7731000" cy="2768400"/>
        </p:xfrm>
        <a:graphic>
          <a:graphicData uri="http://schemas.openxmlformats.org/drawingml/2006/table">
            <a:tbl>
              <a:tblPr/>
              <a:tblGrid>
                <a:gridCol w="3744000"/>
                <a:gridCol w="3987000"/>
              </a:tblGrid>
              <a:tr h="453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ctive</a:t>
                      </a:r>
                      <a:r>
                        <a:rPr b="1" lang="ar-SA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مبني للمعلوم               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assive</a:t>
                      </a:r>
                      <a:r>
                        <a:rPr b="1" lang="ar-SA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مبني للمجهول               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6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i writes letters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etters are written (by Ali)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61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uda wrote the lesson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 lesson was written (by Huda)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aleh will buy a car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 car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ahoma"/>
                        </a:rPr>
                        <a:t>will be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bought (by Saleh)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haled is helping Ahmed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hmed is being helped (by Ali)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he has eaten the apple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 apple has been eaten (by her)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0" name=""/>
          <p:cNvSpPr/>
          <p:nvPr/>
        </p:nvSpPr>
        <p:spPr>
          <a:xfrm>
            <a:off x="2895480" y="2057400"/>
            <a:ext cx="4038840" cy="53352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.  Statements      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الجمل الخبر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ctive &amp; Passive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ffff00"/>
                </a:solidFill>
                <a:latin typeface="Arial"/>
              </a:rPr>
              <a:t>المبني للمعلوم و المبني للمجهول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837720" y="2668680"/>
            <a:ext cx="76964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Arial"/>
              </a:rPr>
              <a:t>يصرف فعل                 مع الأزمنة المختلفة كما يلي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2590920" y="2057400"/>
            <a:ext cx="4952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4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335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38" name=""/>
          <p:cNvSpPr/>
          <p:nvPr/>
        </p:nvSpPr>
        <p:spPr>
          <a:xfrm>
            <a:off x="2895480" y="2057400"/>
            <a:ext cx="4038840" cy="53352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.  Statements      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الجمل الخبر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39" name=""/>
          <p:cNvGraphicFramePr/>
          <p:nvPr/>
        </p:nvGraphicFramePr>
        <p:xfrm>
          <a:off x="1506600" y="3164040"/>
          <a:ext cx="7064280" cy="2923920"/>
        </p:xfrm>
        <a:graphic>
          <a:graphicData uri="http://schemas.openxmlformats.org/drawingml/2006/table">
            <a:tbl>
              <a:tblPr/>
              <a:tblGrid>
                <a:gridCol w="5013360"/>
                <a:gridCol w="2050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m, is, ar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المضارع البسيط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as, wer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الماضي البسيط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hall be, will b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المستقبل البسيط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m being, is being, are be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المضارع المستمر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as being, were be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الماضي المستمر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s been, have be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المضارع التام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d be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الماضي التام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n be, could be, may be, might be, must be, ought to b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كل فعل مساعد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0" name=""/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6535440" y="2743200"/>
            <a:ext cx="657720" cy="30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572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to b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1143000" y="2743200"/>
            <a:ext cx="76960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014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1" lang="ar-SA" sz="1600" spc="-1" strike="noStrike">
                <a:solidFill>
                  <a:srgbClr val="ffff00"/>
                </a:solidFill>
                <a:latin typeface="Arial"/>
              </a:rPr>
              <a:t>. المقارنة بين شيئين أو شخصين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01480" indent="0" algn="r" rtl="1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 marL="5014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هنا تتكون الصفة من أكثر من مقطع، كل مقطع يحتوي على أكثر من حرفين متحركين متباعدين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014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014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014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014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014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هذا النوع من الصفات لا يقبل         و لا        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014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ففي حالة المقارنة بين شيئين تسبق هذه الصفات كلمة            ثم كلمة     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014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01480" indent="-501480" algn="r" rtl="1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eddah is </a:t>
            </a:r>
            <a:r>
              <a:rPr b="0" lang="en-US" sz="1800" spc="-1" strike="noStrike" u="sng">
                <a:solidFill>
                  <a:srgbClr val="cc3300"/>
                </a:solidFill>
                <a:uFillTx/>
                <a:latin typeface="Arial"/>
              </a:rPr>
              <a:t>more beautiful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tha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Riyadh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01480" indent="-501480" algn="r" rtl="1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rench is </a:t>
            </a:r>
            <a:r>
              <a:rPr b="0" lang="en-US" sz="1800" spc="-1" strike="noStrike" u="sng">
                <a:solidFill>
                  <a:srgbClr val="cc3300"/>
                </a:solidFill>
                <a:uFillTx/>
                <a:latin typeface="Arial"/>
              </a:rPr>
              <a:t>more difficult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 tha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English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014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014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014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014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590920" y="2057400"/>
            <a:ext cx="4952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140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5938920" y="4419720"/>
            <a:ext cx="360360" cy="30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572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092920" y="4419720"/>
            <a:ext cx="403200" cy="30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572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e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1703520" y="3193920"/>
          <a:ext cx="5071680" cy="1008000"/>
        </p:xfrm>
        <a:graphic>
          <a:graphicData uri="http://schemas.openxmlformats.org/drawingml/2006/table">
            <a:tbl>
              <a:tblPr/>
              <a:tblGrid>
                <a:gridCol w="2577600"/>
                <a:gridCol w="2494080"/>
              </a:tblGrid>
              <a:tr h="33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beautiful</a:t>
                      </a:r>
                      <a:r>
                        <a:rPr b="0" lang="ar-SA" sz="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جميل                   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difficult</a:t>
                      </a:r>
                      <a:r>
                        <a:rPr b="0" lang="ar-SA" sz="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صعب               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5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dangerous</a:t>
                      </a:r>
                      <a:r>
                        <a:rPr b="0" lang="ar-SA" sz="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خطر                 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orrect</a:t>
                      </a:r>
                      <a:r>
                        <a:rPr b="0" lang="ar-SA" sz="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صحيح               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Important</a:t>
                      </a:r>
                      <a:r>
                        <a:rPr b="0" lang="ar-SA" sz="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مهم                  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Fluent</a:t>
                      </a:r>
                      <a:r>
                        <a:rPr b="0" lang="ar-SA" sz="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فصيح                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6" name=""/>
          <p:cNvSpPr/>
          <p:nvPr/>
        </p:nvSpPr>
        <p:spPr>
          <a:xfrm>
            <a:off x="1447920" y="2057400"/>
            <a:ext cx="6858000" cy="53352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. Comparing Long Adjectives      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مقارنة الصفات الطويل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033640" y="4648320"/>
            <a:ext cx="595080" cy="30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572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tha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396960" y="4648320"/>
            <a:ext cx="686520" cy="30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572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m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omparing Adjectives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مقارنة الصفات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1143000" y="2743200"/>
            <a:ext cx="76960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1" lang="ar-SA" sz="1600" spc="-1" strike="noStrike">
                <a:solidFill>
                  <a:srgbClr val="ffff00"/>
                </a:solidFill>
                <a:latin typeface="Arial"/>
              </a:rPr>
              <a:t>. المقارنة بين أكثر من شيئين أو شخصين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في حالة المقارنة بين أكثر من شيئين تسبق هذه الصفات كلمة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mal is 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th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cc3300"/>
                </a:solidFill>
                <a:uFillTx/>
                <a:latin typeface="Arial"/>
              </a:rPr>
              <a:t>most beautiful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girl in her clas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is 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th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cc3300"/>
                </a:solidFill>
                <a:uFillTx/>
                <a:latin typeface="Arial"/>
              </a:rPr>
              <a:t>most importan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ahoma"/>
              </a:rPr>
              <a:t>subject in this book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590920" y="2057400"/>
            <a:ext cx="4952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>
            <a:hlinkClick r:id="" action="ppaction://hlinkshowjump?jump=nextslide"/>
          </p:cNvPr>
          <p:cNvSpPr/>
          <p:nvPr/>
        </p:nvSpPr>
        <p:spPr>
          <a:xfrm>
            <a:off x="57150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3794"/>
                </a:moveTo>
                <a:lnTo>
                  <a:pt x="19969" y="10800"/>
                </a:lnTo>
                <a:lnTo>
                  <a:pt x="5956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تالي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>
            <a:hlinkClick r:id="" action="ppaction://hlinkshowjump?jump=previousslide"/>
          </p:cNvPr>
          <p:cNvSpPr/>
          <p:nvPr/>
        </p:nvSpPr>
        <p:spPr>
          <a:xfrm>
            <a:off x="36576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10800"/>
                </a:moveTo>
                <a:lnTo>
                  <a:pt x="19969" y="3794"/>
                </a:lnTo>
                <a:lnTo>
                  <a:pt x="19969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ساب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447920" y="2057400"/>
            <a:ext cx="6858000" cy="53352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. Comparing Long Adjectives      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مقارنة الصفات الطويل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401560" y="3276720"/>
            <a:ext cx="1108800" cy="30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572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the mo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omparing Adjectives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مقارنة الصفات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1143000" y="2743200"/>
            <a:ext cx="76960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43740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00"/>
                </a:solidFill>
                <a:latin typeface="Arial"/>
              </a:rPr>
              <a:t>ملاحظــــــــــــة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37400" indent="0" algn="r" rtl="1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 marL="43740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3740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3740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3740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3740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3740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3740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3740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3740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3740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37400" indent="-437400" algn="r" rtl="1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el is </a:t>
            </a:r>
            <a:r>
              <a:rPr b="0" lang="en-US" sz="1800" spc="-1" strike="noStrike" u="sng">
                <a:solidFill>
                  <a:srgbClr val="cc3300"/>
                </a:solidFill>
                <a:uFillTx/>
                <a:latin typeface="Arial"/>
              </a:rPr>
              <a:t>better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 tha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his brother at school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37400" indent="-437400" algn="r" rtl="1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girl is 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th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cc3300"/>
                </a:solidFill>
                <a:uFillTx/>
                <a:latin typeface="Arial"/>
              </a:rPr>
              <a:t>wors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one in her clas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3740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3740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3740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3740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590920" y="2057400"/>
            <a:ext cx="4952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>
            <a:hlinkClick r:id="" action="ppaction://hlinkshowjump?jump=previousslide"/>
          </p:cNvPr>
          <p:cNvSpPr/>
          <p:nvPr/>
        </p:nvSpPr>
        <p:spPr>
          <a:xfrm>
            <a:off x="36576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10800"/>
                </a:moveTo>
                <a:lnTo>
                  <a:pt x="19969" y="3794"/>
                </a:lnTo>
                <a:lnTo>
                  <a:pt x="19969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ساب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447920" y="2057400"/>
            <a:ext cx="6858000" cy="53352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. Comparing Long Adjectives      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مقارنة الصفات الطويل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955800" y="2774880"/>
          <a:ext cx="7481520" cy="2455560"/>
        </p:xfrm>
        <a:graphic>
          <a:graphicData uri="http://schemas.openxmlformats.org/drawingml/2006/table">
            <a:tbl>
              <a:tblPr/>
              <a:tblGrid>
                <a:gridCol w="1496520"/>
                <a:gridCol w="1247040"/>
                <a:gridCol w="2244960"/>
                <a:gridCol w="2493000"/>
              </a:tblGrid>
              <a:tr h="375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المعنى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الصفة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مقارنة بين أثنين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مقارنة بين أكثر من أثنين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2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جيد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oo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better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tha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 </a:t>
                      </a:r>
                      <a:r>
                        <a:rPr b="0" lang="en-US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bes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1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سيئ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a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worse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tha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 </a:t>
                      </a:r>
                      <a:r>
                        <a:rPr b="0" lang="en-US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wors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27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كثير (للمعدود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كثير (لغير المعدود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ny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ch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more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tha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 </a:t>
                      </a:r>
                      <a:r>
                        <a:rPr b="0" lang="en-US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mos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54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قليل (لغير المعدود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tt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less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tha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 </a:t>
                      </a:r>
                      <a:r>
                        <a:rPr b="0" lang="en-US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leas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53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بعيد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a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farther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tha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 </a:t>
                      </a:r>
                      <a:r>
                        <a:rPr b="0" lang="en-US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farthes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omparing Adjectives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مقارنة الصفات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8" name="">
            <a:hlinkClick r:id="" action="ppaction://hlinkshowjump?jump=nextslide"/>
          </p:cNvPr>
          <p:cNvSpPr/>
          <p:nvPr/>
        </p:nvSpPr>
        <p:spPr>
          <a:xfrm>
            <a:off x="57150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3794"/>
                </a:moveTo>
                <a:lnTo>
                  <a:pt x="19969" y="10800"/>
                </a:lnTo>
                <a:lnTo>
                  <a:pt x="5956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تالي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s……..as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     </a:t>
            </a:r>
            <a:r>
              <a:rPr b="0" lang="ar-SA" sz="2800" spc="-1" strike="noStrike">
                <a:solidFill>
                  <a:srgbClr val="ffff00"/>
                </a:solidFill>
                <a:latin typeface="Arial"/>
              </a:rPr>
              <a:t> مثله مثل (بالضبط)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2800"/>
            </a:br>
            <a:r>
              <a:rPr b="0" lang="ar-SA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not as….as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2800" spc="-1" strike="noStrike">
                <a:solidFill>
                  <a:srgbClr val="ffff00"/>
                </a:solidFill>
                <a:latin typeface="Arial"/>
              </a:rPr>
              <a:t>ليس مثله مثل    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0" lang="ar-SA" sz="2800" spc="-1" strike="noStrike">
                <a:solidFill>
                  <a:srgbClr val="ffff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219320" y="2438280"/>
            <a:ext cx="76960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r" rtl="1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يستخدم هذا الاصطلاح حين وجود مساواة بين صفتين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li is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as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all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 a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his brothe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 bag is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as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ig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a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y bag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يستخدم هذا الاصطلاح في حالة </a:t>
            </a:r>
            <a:r>
              <a:rPr b="0" lang="ar-SA" sz="2000" spc="-1" strike="noStrike" u="sng">
                <a:solidFill>
                  <a:srgbClr val="ffffff"/>
                </a:solidFill>
                <a:uFillTx/>
                <a:latin typeface="Arial"/>
              </a:rPr>
              <a:t>عدم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 وجود مساواة بين صفتين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li is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not as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all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 a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his brothe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 bag is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not as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ig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a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y bag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95480" y="1981080"/>
            <a:ext cx="4572000" cy="53352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as……..as   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مثله مثل (بالضبط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895480" y="3962520"/>
            <a:ext cx="4572000" cy="53316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not as……..as   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ليس مثله مثل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>
            <a:hlinkClick r:id="" action="ppaction://hlinkshowjump?jump=previousslide"/>
          </p:cNvPr>
          <p:cNvSpPr/>
          <p:nvPr/>
        </p:nvSpPr>
        <p:spPr>
          <a:xfrm>
            <a:off x="36576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10800"/>
                </a:moveTo>
                <a:lnTo>
                  <a:pt x="19969" y="3794"/>
                </a:lnTo>
                <a:lnTo>
                  <a:pt x="19969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ساب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Adverbs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ظروف [الأحوال]     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43000" y="2133360"/>
            <a:ext cx="76960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69440" indent="-469440" algn="r" rtl="1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Adverb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ways modifies a ver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944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لظرف يصف الفعل دائم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9440" indent="0" algn="r" rtl="1">
              <a:lnSpc>
                <a:spcPct val="8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Arial"/>
            </a:endParaRPr>
          </a:p>
          <a:p>
            <a:pPr marL="46944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9440" indent="-469440" algn="r" rtl="1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st adverbs are formed by adding         to the adjective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94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94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معظم الظروف تكوّن بإضافة        للصفة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94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94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low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slow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i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nice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94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pp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happi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refu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careful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9440" indent="0" algn="r" rtl="1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944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944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944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590920" y="2057400"/>
            <a:ext cx="4952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>
            <a:hlinkClick r:id="" action="ppaction://hlinkshowjump?jump=nextslide"/>
          </p:cNvPr>
          <p:cNvSpPr/>
          <p:nvPr/>
        </p:nvSpPr>
        <p:spPr>
          <a:xfrm>
            <a:off x="57150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3794"/>
                </a:moveTo>
                <a:lnTo>
                  <a:pt x="19969" y="10800"/>
                </a:lnTo>
                <a:lnTo>
                  <a:pt x="5956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تالي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936400" y="3402000"/>
            <a:ext cx="319320" cy="426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572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Tahoma"/>
              </a:rPr>
              <a:t>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555520" y="4011480"/>
            <a:ext cx="319320" cy="426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572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Tahoma"/>
              </a:rPr>
              <a:t>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981080" y="4952880"/>
            <a:ext cx="990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638680" y="4952880"/>
            <a:ext cx="990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5334120"/>
            <a:ext cx="990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133720" y="5334120"/>
            <a:ext cx="990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Adverbs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ظروف [الأحوال]     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2133360"/>
            <a:ext cx="76960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ny kinds of adverb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هناك عدة أنواع من الظروف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Adverbs of manner: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express how an action was don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00"/>
                </a:solidFill>
                <a:latin typeface="Arial"/>
              </a:rPr>
              <a:t>الظروف الدالة على السلوك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 :الظروف التي تعبر عن كيفية وقوع الحدث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90000"/>
              </a:lnSpc>
              <a:spcBef>
                <a:spcPts val="34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 closed the window </a:t>
            </a: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carefully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90000"/>
              </a:lnSpc>
              <a:spcBef>
                <a:spcPts val="34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e soldier fought </a:t>
            </a: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bravely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Adverbs of time</a:t>
            </a:r>
            <a:r>
              <a:rPr b="1" lang="ar-SA" sz="1400" spc="-1" strike="noStrike">
                <a:solidFill>
                  <a:srgbClr val="ffff00"/>
                </a:solidFill>
                <a:latin typeface="Arial"/>
              </a:rPr>
              <a:t>: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express the time when an action is or was don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00"/>
                </a:solidFill>
                <a:latin typeface="Arial"/>
              </a:rPr>
              <a:t>ظروف الزمان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 :الظروف التي تعبر عن كيفية زمن حدوث الفعل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90000"/>
              </a:lnSpc>
              <a:spcBef>
                <a:spcPts val="34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’m going to leave for Cairo </a:t>
            </a: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tomorrow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90000"/>
              </a:lnSpc>
              <a:spcBef>
                <a:spcPts val="34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hat’s going to happen </a:t>
            </a: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next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191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4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Adverbs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ظروف [الأحوال]     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21337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Adverbs of place: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express when an action is don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00"/>
                </a:solidFill>
                <a:latin typeface="Arial"/>
              </a:rPr>
              <a:t>ظروف </a:t>
            </a:r>
            <a:r>
              <a:rPr b="1" lang="ar-SA" sz="1400" spc="-1" strike="noStrike">
                <a:solidFill>
                  <a:srgbClr val="ffff00"/>
                </a:solidFill>
                <a:latin typeface="Arial"/>
                <a:cs typeface="Tahoma"/>
              </a:rPr>
              <a:t>المكان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 :الظروف التي تعبر عن مكان وقوع الحدث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spcBef>
                <a:spcPts val="34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 shall stand </a:t>
            </a: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her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spcBef>
                <a:spcPts val="34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’ve looked </a:t>
            </a: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everywhere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or my lost pen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me words that end in       can be both adjectives or adverbs.  Most of them refer to tim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بعض الكلمات التي تنتهي بـ        من الممكن أن تكون ظروف أو صفات.  معظم هذه الكلمات تدل على الوقت.    مثل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spcBef>
                <a:spcPts val="34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daily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newspaper is published </a:t>
            </a: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daily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spcBef>
                <a:spcPts val="34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e get up </a:t>
            </a: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early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o catch an </a:t>
            </a: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early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train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198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1" name=""/>
          <p:cNvSpPr/>
          <p:nvPr/>
        </p:nvSpPr>
        <p:spPr>
          <a:xfrm>
            <a:off x="3196440" y="3706920"/>
            <a:ext cx="20196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572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Tahoma"/>
              </a:rPr>
              <a:t>l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396840" y="4011480"/>
            <a:ext cx="20196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572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Tahoma"/>
              </a:rPr>
              <a:t>l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1787400" y="4202280"/>
          <a:ext cx="5070240" cy="1134360"/>
        </p:xfrm>
        <a:graphic>
          <a:graphicData uri="http://schemas.openxmlformats.org/drawingml/2006/table">
            <a:tbl>
              <a:tblPr/>
              <a:tblGrid>
                <a:gridCol w="2576880"/>
                <a:gridCol w="2493360"/>
              </a:tblGrid>
              <a:tr h="567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daily</a:t>
                      </a:r>
                      <a:r>
                        <a:rPr b="0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يومياً                            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weekly</a:t>
                      </a:r>
                      <a:r>
                        <a:rPr b="0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أسبوعياً                        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7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monthly</a:t>
                      </a:r>
                      <a:r>
                        <a:rPr b="0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شهرياً                      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yearly</a:t>
                      </a:r>
                      <a:r>
                        <a:rPr b="0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سنوياً                         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4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3T00:17:29Z</dcterms:created>
  <dc:creator>user</dc:creator>
  <dc:description/>
  <dc:language>en-US</dc:language>
  <cp:lastModifiedBy>user</cp:lastModifiedBy>
  <dcterms:modified xsi:type="dcterms:W3CDTF">2007-07-13T00:17:29Z</dcterms:modified>
  <cp:revision>1</cp:revision>
  <dc:subject/>
  <dc:title>Comparing Adjectives مقارنة الصفات</dc:title>
</cp:coreProperties>
</file>