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5309-3A38-47A7-A610-0AC4E0BF2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2FEE-423F-466C-A0ED-7A4846C1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90E7-9343-4A56-AEC4-ED10531C7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0A3C-A0CD-445C-8B8D-B42813268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C5C2-CA89-45E7-800F-A246C668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33A0-1223-4F65-AB57-BCC0ACC6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8D48-9670-4DE4-83D8-96ACBC61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D374-E2C3-4BEA-BCB8-EA48311B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9B93-73FA-4145-AE0A-8A05F19B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9A9C-031F-4A44-A407-900E72E1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8096-67FD-4CFA-B931-ED8D08CB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0ABE-47FB-4CF0-9D48-D5081521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EE1C-B8E3-4E4C-83EB-3570876C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F14F-D4F9-48F5-83C9-22914F44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FF43-EBCB-49A3-A159-0B589E60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5F4A-853F-4020-A0DC-61D068DC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32F9-DD41-4E69-BD5B-B15898AB7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CEA56-2D65-454F-BDF8-6EEF5ED8F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D84C8-EAA4-468C-A581-BEA24CD9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CF269-B7C8-4B66-907A-DFAAAC0B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4829D-69E5-4FF1-8550-3E5D1C9E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10E8D-6878-4C79-AF68-A491264C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6575-F8D4-43F2-B0F9-C1C09A9F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E6E5E-7918-424F-9079-131CDB46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5C5EE-CB47-4BEA-BF2A-E0C7B181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B0BE0-8458-4EAE-9F2B-20558E70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BCB38-6B89-42C7-837E-7C48A7BA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D771F-5C8B-4051-B116-50C4A0B9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36F87-131B-41F8-B764-DCCC946B9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F0875-CAF5-4733-9349-C0E7139A7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18BC-7DB9-4C6C-BEE7-588659D6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66ED-42D9-42FF-ABD7-81E2A689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E3F5-9223-4008-8CE3-7E622EB4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4CF7-9F94-411F-A67A-FB085A57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FF45-520A-45BC-8E2D-405884CF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A1A3-99B8-49C8-9B10-A107C4BE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1DA8-1100-4D3F-BEAE-64C8D682A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32D4-FF2B-407B-936C-8961092D197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4D87-3983-47EF-AA96-DF6150E4A6B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y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7.30 tomorrow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 be flying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to Cair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 be wai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you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5 o'clock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43000" y="2819160"/>
            <a:ext cx="76960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حصل في الماضي و انتهى قبل لحظات أو انتهى في الماضي و لازالت آثاره موجودة حتى الآ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745360" y="3505320"/>
            <a:ext cx="4039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has / have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التصريف الثالث لل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5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54" name=""/>
          <p:cNvGraphicFramePr/>
          <p:nvPr/>
        </p:nvGraphicFramePr>
        <p:xfrm>
          <a:off x="1981080" y="4495680"/>
          <a:ext cx="6743880" cy="1368720"/>
        </p:xfrm>
        <a:graphic>
          <a:graphicData uri="http://schemas.openxmlformats.org/drawingml/2006/table">
            <a:tbl>
              <a:tblPr/>
              <a:tblGrid>
                <a:gridCol w="2362320"/>
                <a:gridCol w="2209680"/>
                <a:gridCol w="2171880"/>
              </a:tblGrid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nc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ذ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دة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us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تو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تى الآن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ve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أبد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ver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بدا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ecently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ديثاً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ready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ماماً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Tense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ve liv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Riyadh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ix yea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not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visited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him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inc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1995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hmed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already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finished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his homewor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s writt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ree letters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ju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6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Tense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94920" y="26665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inc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eans “from some definite point or period n the past up to n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تعني كلمة ”</a:t>
            </a: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منذ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“ اعتباراً من نقطة أو فترة محددة في الماضي و حتى الآن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eans “a definite period of tim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تعني كلمة ”</a:t>
            </a: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لمدة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“ على فترة زمنية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7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3" name=""/>
          <p:cNvGraphicFramePr/>
          <p:nvPr/>
        </p:nvGraphicFramePr>
        <p:xfrm>
          <a:off x="2577960" y="3867120"/>
          <a:ext cx="4849920" cy="2211480"/>
        </p:xfrm>
        <a:graphic>
          <a:graphicData uri="http://schemas.openxmlformats.org/drawingml/2006/table">
            <a:tbl>
              <a:tblPr/>
              <a:tblGrid>
                <a:gridCol w="2349720"/>
                <a:gridCol w="2500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nce</a:t>
                      </a:r>
                      <a:r>
                        <a:rPr b="0" lang="ar-SA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نذ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r</a:t>
                      </a:r>
                      <a:r>
                        <a:rPr b="0" lang="ar-SA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لمدة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’clo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mo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u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ter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 ho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st ni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 ho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st week/ last month/ last y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ys/ 5 weeks / 4 month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y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st centu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a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came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entu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3886200" y="2057400"/>
            <a:ext cx="1828800" cy="4572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nce &amp;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حصل و انتهى في لحظة ما في زمن الماضي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126240" y="3429000"/>
            <a:ext cx="3276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had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التصريف الثالث لل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8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7" name=""/>
          <p:cNvGraphicFramePr/>
          <p:nvPr/>
        </p:nvGraphicFramePr>
        <p:xfrm>
          <a:off x="2119320" y="4703760"/>
          <a:ext cx="5070240" cy="1409400"/>
        </p:xfrm>
        <a:graphic>
          <a:graphicData uri="http://schemas.openxmlformats.org/drawingml/2006/table">
            <a:tbl>
              <a:tblPr/>
              <a:tblGrid>
                <a:gridCol w="2576880"/>
                <a:gridCol w="2493360"/>
              </a:tblGrid>
              <a:tr h="70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fte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ذ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for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دة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ich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تى الآن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s soon as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أبد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Perfect Tense    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219320" y="5257800"/>
            <a:ext cx="7696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43000" y="2895120"/>
            <a:ext cx="76960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ad wash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befo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pray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ent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hom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fter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the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ad finished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their wor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med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ad eat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cak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bough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s soon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ad bough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car, the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ro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Makka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لاحظ أن هذا الزمن غالباً ما يأتي معه زمن الماضي البسيط الذي حدث </a:t>
            </a:r>
            <a:r>
              <a:rPr b="0" lang="ar-SA" sz="2000" spc="-1" strike="noStrike">
                <a:solidFill>
                  <a:srgbClr val="cc3300"/>
                </a:solidFill>
                <a:latin typeface="Arial"/>
              </a:rPr>
              <a:t>بعد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انتهاء الماضي التا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Perfect Tense    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متوقع حدوثه و انتهاؤه في زمن ما في المستقبل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536200" y="3429000"/>
            <a:ext cx="4065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will + have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التصريف الثالث لل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0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11" name=""/>
          <p:cNvGraphicFramePr/>
          <p:nvPr/>
        </p:nvGraphicFramePr>
        <p:xfrm>
          <a:off x="2119320" y="4703760"/>
          <a:ext cx="5070240" cy="585360"/>
        </p:xfrm>
        <a:graphic>
          <a:graphicData uri="http://schemas.openxmlformats.org/drawingml/2006/table">
            <a:tbl>
              <a:tblPr/>
              <a:tblGrid>
                <a:gridCol w="2576520"/>
                <a:gridCol w="2493720"/>
              </a:tblGrid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y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حلول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ند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Perfect Tense   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.00 this afternoon, I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 have finish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y wor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10.00 tonight, s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 have written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five letter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Perfect Tense   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وقع جزء منه و تم في الماضي و لكنه مستمر حتى الآن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569680" y="3429000"/>
            <a:ext cx="365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has / have + been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+ 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3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34" name=""/>
          <p:cNvGraphicFramePr/>
          <p:nvPr/>
        </p:nvGraphicFramePr>
        <p:xfrm>
          <a:off x="2119320" y="4703760"/>
          <a:ext cx="5070240" cy="585360"/>
        </p:xfrm>
        <a:graphic>
          <a:graphicData uri="http://schemas.openxmlformats.org/drawingml/2006/table">
            <a:tbl>
              <a:tblPr/>
              <a:tblGrid>
                <a:gridCol w="2576520"/>
                <a:gridCol w="2493720"/>
              </a:tblGrid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دة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nc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ذ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5" name=""/>
          <p:cNvSpPr/>
          <p:nvPr/>
        </p:nvSpPr>
        <p:spPr>
          <a:xfrm>
            <a:off x="1219320" y="2057400"/>
            <a:ext cx="72388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مر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ve been study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glish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ix yea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s been sleeping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nc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2 o’clock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4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219320" y="2057400"/>
            <a:ext cx="72388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مر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يقع الآن فقط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يتكون هذا الزمن من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                     am + verb + 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, she, it                        is + verb + 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, we, you                       are + verb + 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905120" y="4952880"/>
          <a:ext cx="6933960" cy="1113120"/>
        </p:xfrm>
        <a:graphic>
          <a:graphicData uri="http://schemas.openxmlformats.org/drawingml/2006/table">
            <a:tbl>
              <a:tblPr/>
              <a:tblGrid>
                <a:gridCol w="2057400"/>
                <a:gridCol w="3504960"/>
                <a:gridCol w="13716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w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آ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 the moment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في هذه اللحظة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ok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نظر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ste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ستمع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 the present time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وقت الحاضر                                         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                                          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89440" y="3125880"/>
            <a:ext cx="3116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m / is / are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+ 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14600" y="411480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449568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Continuous Tense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لكي نفرق بين المضارع التام المستمر و المضارع التام                        :  لاحظ الأمثلة التالي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ha started making cakes three hours ago. There are now one hundred cakes on the tab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ن هذه الجملتين نكوّن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esent Perfect Continuous Tens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المستمر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  المضار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التا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s been making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ke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three hour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esent Perfect Tens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  المضار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التا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s ma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10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ke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219320" y="2057400"/>
            <a:ext cx="72388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مر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295280" y="28954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sent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mperativ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صيغة الأمر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66320" y="2133360"/>
            <a:ext cx="76964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mperati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verbs used at the beginning of sentences either in  the affirmative or negative to indicate instructions, invitations, signs and notices or telling someone what to d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صيغة الأمر هي أفعال تستخدم في بداية الجمل أما تكون في الإثبات لتعبر عن التعليمات، الدعوى، الإشارات و الملاحظات أو إخبار شخص ماذا يفعل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mperatives uses the simple form of the verb such as: walk, read, open,….et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ستخدم صيغة الأمر الصيغة البسيطة للفعل أي التصريف الأول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mperativ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صيغة الأمر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6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ive Instructions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           إعطاء تعليم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Mi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lour and the suga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ake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wo tablets every four hour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 Invitation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صيغة الدعوى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Come in; mak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selves at ho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Pleas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tart; do not wait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for m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g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نفي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ll someone what to d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إخبار شخص ما سيفعله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Op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boo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 not forget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o post the lette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ar-SA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g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نفي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mperativ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صيغة الأمر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ive Warnings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           إعطاء تحذيرات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Keep out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ng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 Signs &amp; Notice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تكوين إشارات و ملاحظات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ush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Insert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2 X 50 S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Keep off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the gras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 Request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تكوين الطلب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eas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op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do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696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odal has only one form of the verb for all persons, but it can have several meanings and time frames, depending on the context in which it is us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فعل الناقص له صيغة واحدة مع جميع الأشخاص ولكن له عدة معاني و أشكال زمنية حسب المحتوى الذي تستخدم في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صيغة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hall, should, will would, may, might, can, could, must, ought t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(التصريف الأول للفعل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als have no infinitives or past particip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ليس للفعل الناقص مصدر أو تصريف ثالث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8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066680" y="1905120"/>
          <a:ext cx="7543800" cy="4279680"/>
        </p:xfrm>
        <a:graphic>
          <a:graphicData uri="http://schemas.openxmlformats.org/drawingml/2006/table">
            <a:tbl>
              <a:tblPr/>
              <a:tblGrid>
                <a:gridCol w="1524240"/>
                <a:gridCol w="2971800"/>
                <a:gridCol w="3047760"/>
              </a:tblGrid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al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فعال الناقص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resse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بر عن: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m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وع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ke a rewar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er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صمي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does not want to obey me: but 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re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هد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e punished if you come lat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واج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obey your teacher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ice or opin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نصيحة أو الرأ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top smoking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simple future tens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صيغة المستقبل البسي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it us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ermination or prom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تصميم أو الوع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ravel when I lik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o as you wis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9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1136520" y="2100240"/>
          <a:ext cx="7473960" cy="3975120"/>
        </p:xfrm>
        <a:graphic>
          <a:graphicData uri="http://schemas.openxmlformats.org/drawingml/2006/table">
            <a:tbl>
              <a:tblPr/>
              <a:tblGrid>
                <a:gridCol w="1586160"/>
                <a:gridCol w="2868480"/>
                <a:gridCol w="3019320"/>
              </a:tblGrid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al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فعال الناقص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resse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بر عن: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s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إمكان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hoped that I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thought that the weather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mig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 ch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, am/is/are able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مقدر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 it carefull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s able 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olve the proble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 be able, will be 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ility in the fu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مقدرة على المستقب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 be abl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help you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t, present or future poss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إمكانية في الماضي/ المضارع / المستقب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had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rive his car a year ag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i is not in class today. 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e sic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 not leave now. It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ain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ces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ضرور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mus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listen to your teacher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d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ast form of must :past neces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ضرورة في الماض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isal could not come to our dinner party. 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e ha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stay home to stud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8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402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1066680" y="1905120"/>
          <a:ext cx="7543440" cy="2109240"/>
        </p:xfrm>
        <a:graphic>
          <a:graphicData uri="http://schemas.openxmlformats.org/drawingml/2006/table">
            <a:tbl>
              <a:tblPr/>
              <a:tblGrid>
                <a:gridCol w="1600920"/>
                <a:gridCol w="2895120"/>
                <a:gridCol w="3047400"/>
              </a:tblGrid>
              <a:tr h="70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al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فعال الناقص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resse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بر عن: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نصيح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lp the poo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 ha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s that were advisable in the pa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داث كان من المستحسن عملها في الماض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 have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i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did not. That was a mistak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41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623880" y="1600200"/>
          <a:ext cx="7980120" cy="4026960"/>
        </p:xfrm>
        <a:graphic>
          <a:graphicData uri="http://schemas.openxmlformats.org/drawingml/2006/table">
            <a:tbl>
              <a:tblPr/>
              <a:tblGrid>
                <a:gridCol w="1578960"/>
                <a:gridCol w="1496520"/>
                <a:gridCol w="1579320"/>
                <a:gridCol w="1579680"/>
                <a:gridCol w="1745640"/>
              </a:tblGrid>
              <a:tr h="644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ن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Qu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ort Answ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جابات مختص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at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at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ey eat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they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they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lea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lea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 lea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 lea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lee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y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lee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 slee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23880" y="1600200"/>
          <a:ext cx="7980120" cy="4144680"/>
        </p:xfrm>
        <a:graphic>
          <a:graphicData uri="http://schemas.openxmlformats.org/drawingml/2006/table">
            <a:tbl>
              <a:tblPr/>
              <a:tblGrid>
                <a:gridCol w="1578960"/>
                <a:gridCol w="1496520"/>
                <a:gridCol w="1579320"/>
                <a:gridCol w="1579680"/>
                <a:gridCol w="1745640"/>
              </a:tblGrid>
              <a:tr h="645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ن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Qu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ort Answ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جابات مختص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o i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o i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 do i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l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l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 tal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ave a test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ave a test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e have a test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go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go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you go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lp  the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not 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lp  the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lp  the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m reading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 story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 the mo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 watc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elevisio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ok!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bus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s coming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Continuous Tense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371600" y="3429000"/>
          <a:ext cx="7467480" cy="2666880"/>
        </p:xfrm>
        <a:graphic>
          <a:graphicData uri="http://schemas.openxmlformats.org/drawingml/2006/table">
            <a:tbl>
              <a:tblPr/>
              <a:tblGrid>
                <a:gridCol w="1905120"/>
                <a:gridCol w="1828800"/>
                <a:gridCol w="1866960"/>
                <a:gridCol w="18666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k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حب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v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حب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n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ريد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fe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فضل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sh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يتمنى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t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كره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lik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كره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el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شعر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p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أمل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سمع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nk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عتقد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em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بدو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ea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ظهر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a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خشى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ide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عتبر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ناسب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iev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صدق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us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ثق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rstand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فهم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1219320" y="27432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بعض الأفعال لا يمكن أن تقع في الاستمرار سواء المضارع المستمر أو الماضي المستمر  وهذه الأفعال تعبر عن الشعور والأذى والإحساس ومن هذه الأفعال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Continuous Tense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360" y="2895480"/>
            <a:ext cx="7848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ستخدم هذا الزمن للتعبير عن فعل وقع في الماضي  أثناء وقوع فعل أخر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تكون هذا الزمن من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ملحوظ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هذا الزمن عادة ما يأتي معه زمن الماضي البسيط و الذي تخلل الماضي المستمر أي الذي وقع أثناء حدوث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219320" y="4267080"/>
          <a:ext cx="7619760" cy="700200"/>
        </p:xfrm>
        <a:graphic>
          <a:graphicData uri="http://schemas.openxmlformats.org/drawingml/2006/table">
            <a:tbl>
              <a:tblPr/>
              <a:tblGrid>
                <a:gridCol w="2286000"/>
                <a:gridCol w="1757160"/>
                <a:gridCol w="1787760"/>
                <a:gridCol w="17888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en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ندم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ile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بينما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s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حيث أن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caus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أن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77240" y="3276720"/>
            <a:ext cx="2835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was / were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+ 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Continuous Tense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 algn="ct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l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was sleeping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thief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entered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ro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(بينما كنت نائماً ، دخل لص غرفتي)  هذه الجملة تحتوي على حدثين أحدهما ماضي مستمر وهو النوم والآخر دخول اللص الغرفة الذي حصل أثناء النوم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e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were eat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,  my father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came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( بينما كنا نأكل ، جاء والدي) هذه الجملة تحتوي على حدثين أحدهما ماضي مستمر وهو الأكل والآخر مجيء والدي الذي حصل أثناء الأكل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36576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مستم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43400" y="35812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ffffff"/>
                </a:solidFill>
                <a:latin typeface="Tahoma"/>
              </a:rPr>
              <a:t>ماضي بسي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81080" y="502920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ffffff"/>
                </a:solidFill>
                <a:latin typeface="Tahoma"/>
              </a:rPr>
              <a:t>ماضي مستم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8320" y="502920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ffffff"/>
                </a:solidFill>
                <a:latin typeface="Tahoma"/>
              </a:rPr>
              <a:t>ماضي بسي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Continuous Tense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لاحظة: يمكن وضع أداة الربط وسط الجملة دون أن يتغير المعنى فتصبح الجملتان السابقة كما يلي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thief 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entered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my room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l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was sleeping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دخل لص غرفتي بينما كنت نائما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father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came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e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were eat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جاء والدي بينما كنا نأك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76920" y="44956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مستم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76520" y="44956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بسي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56386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بسي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0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3886200" y="57150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مستم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Continuous Tense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1932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ملاحظ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تكتب الفاصلة إذا بدأت الجملة بكلمة        وتح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  <a:cs typeface="Tahoma"/>
              </a:rPr>
              <a:t>ذ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إذا وقعت في منتصف الجملة الأولى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تذكر دائماً أن قاعدة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بها فعلان الأول طويل مستمر و الآخر مفاجئ وهو ماضي بسي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5334120"/>
            <a:ext cx="15238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266688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181480" y="441972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Continuous Tense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680" y="2895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شيء متوقع حدوثه في المستقبل ويستمر لفترة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05440" y="3429000"/>
            <a:ext cx="2944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( will + be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ing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1" name=""/>
          <p:cNvGraphicFramePr/>
          <p:nvPr/>
        </p:nvGraphicFramePr>
        <p:xfrm>
          <a:off x="1981080" y="4495680"/>
          <a:ext cx="6743880" cy="1400040"/>
        </p:xfrm>
        <a:graphic>
          <a:graphicData uri="http://schemas.openxmlformats.org/drawingml/2006/table">
            <a:tbl>
              <a:tblPr/>
              <a:tblGrid>
                <a:gridCol w="3048120"/>
                <a:gridCol w="1828800"/>
                <a:gridCol w="1866960"/>
              </a:tblGrid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ند للزمن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حلول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غضون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om…to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..إلى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l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،جميع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fter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عد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6:43Z</dcterms:created>
  <dc:creator>user</dc:creator>
  <dc:description/>
  <dc:language>en-US</dc:language>
  <cp:lastModifiedBy>user</cp:lastModifiedBy>
  <dcterms:modified xsi:type="dcterms:W3CDTF">2007-07-13T00:16:43Z</dcterms:modified>
  <cp:revision>1</cp:revision>
  <dc:subject/>
  <dc:title>الشريحة 1</dc:title>
</cp:coreProperties>
</file>