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B330-4027-48CC-9224-44A93CF21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D5A5-C634-4847-A4BC-7CD339FAB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F16A3-BB0E-4ABE-BCD4-7DC936268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68C45-82DC-45D8-B911-443D6A495A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7CFAF-E8C2-4E87-8235-344534AE5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A68A1-5827-4AED-96E1-BC4D42FD8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BDAD1-F290-4B3B-BC50-E98B4822B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8120C-374B-4580-84E7-907B82EA6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68DC2-8CFC-4528-ACBB-DA76344AAA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40D53-ECFB-4009-8B5F-3C8CAFF6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494F7-1953-42D4-950A-9C0EAB51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C961-F8F8-4964-89CD-5496928B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5FC7F-8AF0-41F8-ACB6-0E14575D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7ABAB-80CE-49DE-9610-D93B8961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F09D-F128-4EC6-B545-378643F42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0999-7F4C-424F-A537-488E871E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872D8-2980-4A8A-B23A-E7BA8E66D5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72BEAE-96DB-4F9F-8E2C-64CBC8EE6A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AACF9-5B45-4AD9-84BB-85965CE77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A7115-5B67-4E13-BE02-D6A78B852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674EED-1D21-4C1D-8B1F-FB3B69EEF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7771A-270E-4A67-B2C2-3A109F321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E07A-A6A8-445C-8402-8CC28F94E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37C134-5F25-4BB1-9B6F-45971CBE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51BE-5EC7-4BA6-BF5E-7674EC47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964B19-9AD7-4B6D-9662-388B69007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5695AB-8A2B-42A4-B9EE-BB2936BC7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2E9761-C1F9-4944-BA2A-981DECA54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D28DD-A311-488E-95C8-6D51F5CB3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1EC7A-7905-4A3F-B1AC-606AAC44C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CFA-B0D6-4288-80E3-29E093E7D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ADD8-F2AC-487A-B992-D31537D7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528CE-61FA-49B6-815C-32BE71612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E19F-33B2-44B7-84FA-1E73B1CDD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5CEBA-2560-45A6-A57D-0ECF958CA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B676-F632-416B-AD57-9701EDA7D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FF6E6-46CC-49D0-A004-42F88EAFB7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42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80264-E65C-4049-BC30-2E7D704493BF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9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3957-3B83-4855-B5D6-595B00B11003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اضي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 last nigh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i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otball yesterd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ffff00"/>
                </a:solidFill>
                <a:uFillTx/>
                <a:latin typeface="Arial"/>
              </a:rPr>
              <a:t>ملاحظ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جميع الأسئلة السابقة تكون إجابتها بـ        أو         و ذلك لأنها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  <a:ea typeface="Tahoma"/>
              </a:rPr>
              <a:t> لم</a:t>
            </a:r>
            <a:r>
              <a:rPr b="0" lang="ar-SA" sz="1800" spc="-1" strike="noStrike">
                <a:solidFill>
                  <a:srgbClr val="ffff00"/>
                </a:solidFill>
                <a:latin typeface="Arial"/>
              </a:rPr>
              <a:t> تبدأ بأداة سؤال.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12080" y="480060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414320" y="5410080"/>
            <a:ext cx="54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717360" y="5410080"/>
            <a:ext cx="49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010480" y="2590920"/>
            <a:ext cx="56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1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990720" y="2516040"/>
          <a:ext cx="7543800" cy="3547800"/>
        </p:xfrm>
        <a:graphic>
          <a:graphicData uri="http://schemas.openxmlformats.org/drawingml/2006/table">
            <a:tbl>
              <a:tblPr/>
              <a:tblGrid>
                <a:gridCol w="1828800"/>
                <a:gridCol w="1371600"/>
                <a:gridCol w="4343400"/>
              </a:tblGrid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r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ك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en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ت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ز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سب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at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ا/ ماذا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شي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i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اختيار بين شيئ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فاعل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m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مفعول به عاق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37" name=""/>
          <p:cNvSpPr/>
          <p:nvPr/>
        </p:nvSpPr>
        <p:spPr>
          <a:xfrm>
            <a:off x="838080" y="175248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إذا كان الهدف من السؤال إعطاء معلومة معينة فيجب أن يبدأ بإحدى أدوات السؤال التالية و التي تسمى: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3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990720" y="2516040"/>
          <a:ext cx="7543800" cy="3524040"/>
        </p:xfrm>
        <a:graphic>
          <a:graphicData uri="http://schemas.openxmlformats.org/drawingml/2006/table">
            <a:tbl>
              <a:tblPr/>
              <a:tblGrid>
                <a:gridCol w="2057400"/>
                <a:gridCol w="1143000"/>
                <a:gridCol w="4343400"/>
              </a:tblGrid>
              <a:tr h="483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hos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م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لكية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98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يف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طو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م بع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5" name=""/>
          <p:cNvSpPr/>
          <p:nvPr/>
        </p:nvSpPr>
        <p:spPr>
          <a:xfrm>
            <a:off x="838080" y="1600200"/>
            <a:ext cx="7696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 Questions (Co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4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ختر أداة السؤال المناسبة للجزء المراد السؤال عنه، مثل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n, Where, Why………..etc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عل المساعد                      (إن وجد) قبل الفاعل أي بعد أداة السؤال مباشرة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3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إذا لم يكن بالجملة فعل مساعد استخدم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بدون     نستخدم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ضارع الذي به    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* مع الفعل الماضي نستخد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4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ضع الفاعل بعد الفعل المساعد سواء الموجود بالجملة أصلاً أو          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التي استخدمناها من عندنا مع ملاحظة إعادة الفعل إلى أصله أي تصريفه الأول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5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) احذف الجزء المراد السؤال عنه لأنه جواب السؤال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9568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Tahoma"/>
              </a:rPr>
              <a:t>helping ver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5486400" y="380988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09880" y="3809880"/>
            <a:ext cx="5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105520" y="4191120"/>
            <a:ext cx="38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200400" y="4191120"/>
            <a:ext cx="83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648320" y="4572000"/>
            <a:ext cx="76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0666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ct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are going to eat m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re they going to e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قدمنا      على         لأنها هي الفعل المساعد ثم حذفنا كلمة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played tennis at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e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id they play tenn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* لاحظ أننا استخدمنا        لعدم وجود فعل مساعد و لأن الفعل في الماضي. و لاحظ أيضاً حذف       من الفعل لإعادته ألى أصله. و لاحظ أننا حذفنا             لأنها الجواب على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657760" y="3276720"/>
            <a:ext cx="147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they        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22840" y="3276720"/>
            <a:ext cx="734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me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57440" y="4952880"/>
            <a:ext cx="52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d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696360" y="5181480"/>
            <a:ext cx="45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416600" y="5181480"/>
            <a:ext cx="114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t sch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72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teps for Making a Question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خطوات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تكوين السؤا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2400" spc="-1" strike="noStrike" u="sng">
                <a:solidFill>
                  <a:srgbClr val="ffffff"/>
                </a:solidFill>
                <a:uFillTx/>
                <a:latin typeface="Arial"/>
              </a:rPr>
              <a:t>ملاحظ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احظ تغيير بعض الضمائر لكي تتناسب مع المعنى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m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you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صبح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إذا كان السؤال عن الفاعل لا نستخدم فعلاًًًًً مساعداً من عندنا بل نضع أداة السؤال            إذا كان الفاعل عاقلاً و            إذا كان الفعل غير عاقلا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Ahm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.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roke the wind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The boo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Wha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describes accident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315200" y="3352680"/>
            <a:ext cx="914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7315200" y="3429000"/>
            <a:ext cx="1066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572000" y="403848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620120" y="4343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w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wa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very please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was he to meet his frien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حالة أو الكيف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hirt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any boy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in this clas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د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any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twenty years old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old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are you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عم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ol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paid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ive pounds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muc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did you pay for this coat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كم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muc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8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00"/>
                </a:solidFill>
                <a:latin typeface="Arial"/>
              </a:rPr>
              <a:t>استعمالات 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ow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32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539640" y="1600200"/>
          <a:ext cx="8146800" cy="4530240"/>
        </p:xfrm>
        <a:graphic>
          <a:graphicData uri="http://schemas.openxmlformats.org/drawingml/2006/table">
            <a:tbl>
              <a:tblPr/>
              <a:tblGrid>
                <a:gridCol w="5154120"/>
                <a:gridCol w="1648800"/>
                <a:gridCol w="1343880"/>
              </a:tblGrid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450 KM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far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it from Dammam to Riyad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مساف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fa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rope is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 two meters long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long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rop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أطوا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lo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is fence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four meters high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hig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this fence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الإرتفاعات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high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ami is 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meter and a half tall</a:t>
                      </a: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How tall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is Sami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hi-I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للسؤال عن أطوال الأشخا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ow tal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4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som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بعض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any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/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أي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38080" y="1905120"/>
            <a:ext cx="769644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ستخدم             و أخواتها في الجمل الخبرية و ليست المنفية أو السؤال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تستخدم           و أخواتها مع السؤال و النفي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سؤال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 u="sng">
                <a:solidFill>
                  <a:srgbClr val="ffffff"/>
                </a:solidFill>
                <a:uFillTx/>
                <a:latin typeface="Arial"/>
              </a:rPr>
              <a:t>مع النفي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672240" y="1828800"/>
            <a:ext cx="96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s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752480" y="243828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had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         2) 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was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ome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767280" y="3352680"/>
            <a:ext cx="695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1752480" y="4191120"/>
            <a:ext cx="678204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Do you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?             2)  Is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at h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Is h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76520" y="5410080"/>
            <a:ext cx="6781680" cy="6426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1) We do not hav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books.         2)  I did not see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body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3) He is not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anywhere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نفي نضع كلمة          بعد الفعل المساعد: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00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app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 n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2414520" y="1905120"/>
            <a:ext cx="743040" cy="5205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Tahoma"/>
              </a:rPr>
              <a:t>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696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relative pronouns are used to join sentences togeth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ضمائر الوصل لربط الجمل بعضها ببعض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لربط الجمل اتبع الخطوات الآتي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نبحث عن كلمة متكررة في الجملة الثانية ثم نبحث عن موقعها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فإذا كانت فاعلاً عاقلاً نستعمل  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إذا كانت مفعولاً به عاقلاً نستعمل           و نعرف ذلك بوجود الكلمة بعد الفعل.  و إذا كانت غير عاقل نستعمل 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ا            فتستخدم بدل أي كلمة من الكلمات السابقة إلا أننا لا نفضل استعمالها في جميع الجم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و إذا كانت للملكية نستعمل كلمة           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- احذف الكلمة المتكررة من الجملة الثانية وضع الاسم الذي حذفت مثله في الجملة الأولى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43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5163480" y="35812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76760" y="388620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081400" y="4114800"/>
            <a:ext cx="81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682160" y="4800600"/>
            <a:ext cx="88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710840" y="4343400"/>
            <a:ext cx="61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42640" y="1828800"/>
            <a:ext cx="7543800" cy="82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ong forms &amp; Short forms of Verb to be</a:t>
            </a: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2400"/>
            </a:b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313" name=""/>
          <p:cNvGraphicFramePr/>
          <p:nvPr/>
        </p:nvGraphicFramePr>
        <p:xfrm>
          <a:off x="495288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 no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1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1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318" name=""/>
          <p:cNvGraphicFramePr/>
          <p:nvPr/>
        </p:nvGraphicFramePr>
        <p:xfrm>
          <a:off x="990720" y="2820960"/>
          <a:ext cx="3695760" cy="3587760"/>
        </p:xfrm>
        <a:graphic>
          <a:graphicData uri="http://schemas.openxmlformats.org/drawingml/2006/table">
            <a:tbl>
              <a:tblPr/>
              <a:tblGrid>
                <a:gridCol w="1847880"/>
                <a:gridCol w="18478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ong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hort Form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 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’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he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 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t’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ou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e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 a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hey’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3989520" cy="50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ffirm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</a:t>
            </a:r>
            <a:r>
              <a:rPr b="0" lang="ar-SA" sz="2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الإثبات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029200" y="2286000"/>
            <a:ext cx="3657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 algn="ctr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(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Negative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)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النف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 النف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Making Negative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تكوين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 النفي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295280" y="1981080"/>
            <a:ext cx="7391520" cy="106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إذا لم يكن في الجملة فعل مساعد فنأتي بفعل مساعد من عندنا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وهذه الأفعال المساعدة هي:                          ثم نضع              بعده مع ملاحظة إعادة الفعل إلى أصله أي التصريف الأول.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53800" indent="0" algn="r" rtl="1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200" spc="-1" strike="noStrike">
                <a:solidFill>
                  <a:srgbClr val="cc3300"/>
                </a:solidFill>
                <a:latin typeface="Arial"/>
              </a:rPr>
              <a:t>ملاحظة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: إذا كانت إحدى الكلمات الآتية في الجملة فننفي الجملة بنفي الكلمة كما في الجدول التالي: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638160" y="2209680"/>
            <a:ext cx="18676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do, does, di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984680" y="2209680"/>
            <a:ext cx="735480" cy="3988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(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9" name=""/>
          <p:cNvGraphicFramePr/>
          <p:nvPr/>
        </p:nvGraphicFramePr>
        <p:xfrm>
          <a:off x="1512720" y="3457440"/>
          <a:ext cx="7128000" cy="2710080"/>
        </p:xfrm>
        <a:graphic>
          <a:graphicData uri="http://schemas.openxmlformats.org/drawingml/2006/table">
            <a:tbl>
              <a:tblPr/>
              <a:tblGrid>
                <a:gridCol w="3564000"/>
                <a:gridCol w="356400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ffirm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اثبات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gative</a:t>
                      </a: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نفي          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         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بع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an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oth……and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من....و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ither…..or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إما......أو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ither………….n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metime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v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………as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ثله.......مثل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so…………..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ll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t al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every</a:t>
                      </a: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ar-SA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                           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, not eve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ستخدم هذا الزمن للتعبير عن العادات و التقاليد و القدرات و الحقائق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تكون هذا الزمن من التصريف الأول للفعل أي الفعل المجرد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0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1828800" y="4267080"/>
          <a:ext cx="6934320" cy="178740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8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ever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ك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lway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دائماً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usu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عادة 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4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general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عمومًا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often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الب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sometimes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حياناً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rarely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نادرا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ver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أبداً   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from time to time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ن حين لآخر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34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38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143000" y="2895120"/>
            <a:ext cx="769608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o school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usu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sleep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t 11.00 p.m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offee in the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never late to schoo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ملاحظة: إذا كان الفاعل مفرد غائب نضيف    زيادة للفعل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i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drink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ilk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very morn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cow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gi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us mil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187880" y="4878360"/>
            <a:ext cx="3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ahoma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4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2362320" y="1981080"/>
            <a:ext cx="525780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362320" y="2057400"/>
            <a:ext cx="5181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resen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ضارع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وقع في الماضي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تكون هذا الزمن من التصريف الثاني للفعل أي إضافة       مع ملاحظة الأفعال الشاذة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53" name=""/>
          <p:cNvGraphicFramePr/>
          <p:nvPr/>
        </p:nvGraphicFramePr>
        <p:xfrm>
          <a:off x="1828800" y="4495680"/>
          <a:ext cx="6934320" cy="1087560"/>
        </p:xfrm>
        <a:graphic>
          <a:graphicData uri="http://schemas.openxmlformats.org/drawingml/2006/table">
            <a:tbl>
              <a:tblPr/>
              <a:tblGrid>
                <a:gridCol w="2286000"/>
                <a:gridCol w="2209680"/>
                <a:gridCol w="243864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yesterday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مس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las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ماضي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ago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مضى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1988 AD, in 1415 AH</a:t>
                      </a: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          </a:t>
                      </a:r>
                      <a:r>
                        <a:rPr b="0" lang="ar-SA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أو أي تاريخ في الماضي مث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54" name=""/>
          <p:cNvSpPr/>
          <p:nvPr/>
        </p:nvSpPr>
        <p:spPr>
          <a:xfrm>
            <a:off x="2590920" y="2057400"/>
            <a:ext cx="49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738800" y="3227400"/>
            <a:ext cx="5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5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1066680" y="304920"/>
            <a:ext cx="7543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800" spc="-1" strike="noStrike">
                <a:solidFill>
                  <a:srgbClr val="000066"/>
                </a:solidFill>
                <a:latin typeface="Arial"/>
              </a:rPr>
              <a:t>Past Simple Tense</a:t>
            </a:r>
            <a:r>
              <a:rPr b="0" lang="ar-SA" sz="800" spc="-1" strike="noStrike">
                <a:solidFill>
                  <a:srgbClr val="000066"/>
                </a:solidFill>
                <a:latin typeface="Arial"/>
              </a:rPr>
              <a:t>    الماضي البسيط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b2b2b2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, He, She, it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a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, We, You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w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atch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elevision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last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visit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ir uncle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yesterda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e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o Makkah two months 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ofte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90920" y="2057400"/>
            <a:ext cx="49528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Past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اضي البسيط</a:t>
            </a:r>
            <a:r>
              <a:rPr b="0" lang="ar-SA" sz="16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2971800" y="304812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2971800" y="342900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7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3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666880" y="1981080"/>
            <a:ext cx="472464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</a:t>
            </a: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 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43000" y="2743200"/>
            <a:ext cx="76960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ستخدم هذا الزمن للتعبير عن حدث متوقع حدوثه في المستقبل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تكون هذا الزمن من         او           ثم التصريف الأول للفعل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تأتي        مع ضمير المتكلم    و      أما         فتأتي مع باقي الضمائر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ولكن          ندر استخدامها في الإنجليزية الحديثة وقد حلت كلمة        بدلها مع جميع الضمائر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Arial"/>
              </a:rPr>
              <a:t>يأتي هذا الزمن عادة مع كلمات مثل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0" algn="r" rtl="1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7" name=""/>
          <p:cNvGraphicFramePr/>
          <p:nvPr/>
        </p:nvGraphicFramePr>
        <p:xfrm>
          <a:off x="1828800" y="4724280"/>
          <a:ext cx="6934320" cy="1087560"/>
        </p:xfrm>
        <a:graphic>
          <a:graphicData uri="http://schemas.openxmlformats.org/drawingml/2006/table">
            <a:tbl>
              <a:tblPr/>
              <a:tblGrid>
                <a:gridCol w="2209680"/>
                <a:gridCol w="1752840"/>
                <a:gridCol w="2971800"/>
              </a:tblGrid>
              <a:tr h="49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tomorrow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غدا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next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القادم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the future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في المستقبل 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9688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00"/>
                          </a:solidFill>
                          <a:latin typeface="Arial"/>
                        </a:rPr>
                        <a:t>in 2010 AD, in 1425 AH</a:t>
                      </a: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: </a:t>
                      </a:r>
                      <a:r>
                        <a:rPr b="0" lang="ar-SA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أو أي تاريخ في المستقبل مثل          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78" name=""/>
          <p:cNvSpPr/>
          <p:nvPr/>
        </p:nvSpPr>
        <p:spPr>
          <a:xfrm>
            <a:off x="2590920" y="2057400"/>
            <a:ext cx="4952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0" lang="ar-SA" sz="20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20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0" lang="ar-SA" sz="1800" spc="-1" strike="noStrike">
                <a:solidFill>
                  <a:srgbClr val="000066"/>
                </a:solidFill>
                <a:latin typeface="Tahoma"/>
              </a:rPr>
              <a:t>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409720" y="3048120"/>
            <a:ext cx="146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 </a:t>
            </a:r>
            <a:r>
              <a:rPr b="0" lang="ar-SA" sz="1800" spc="-1" strike="noStrike">
                <a:solidFill>
                  <a:srgbClr val="cc33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    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76960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334120" y="3352680"/>
            <a:ext cx="83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e  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495680" y="33526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7620120" y="36576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sha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209680" y="3657600"/>
            <a:ext cx="762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3300"/>
                </a:solidFill>
                <a:latin typeface="Tahoma"/>
              </a:rPr>
              <a:t>w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8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209680" y="2057400"/>
            <a:ext cx="556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2133720" y="1981080"/>
            <a:ext cx="5638680" cy="53352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TENSE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الأزمنة   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1143000" y="2895480"/>
            <a:ext cx="769608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ffffff"/>
                </a:solidFill>
                <a:uFillTx/>
                <a:latin typeface="Arial"/>
              </a:rPr>
              <a:t>أمثلــــــــــــــــــــــة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I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wil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go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to school tomorr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pl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oot ball next Frida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 algn="r" rtl="1">
              <a:spcBef>
                <a:spcPts val="499"/>
              </a:spcBef>
              <a:buClr>
                <a:srgbClr val="ffffcc"/>
              </a:buClr>
              <a:buSzPct val="7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ill join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e army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 the futu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ك تكوين أخر للمستقبل البسيط باستخدام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53352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m , is , are                        going t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2209680" y="2057400"/>
            <a:ext cx="5562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. Future Simple Tense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المستقبل البسيط</a:t>
            </a:r>
            <a:r>
              <a:rPr b="1" lang="ar-SA" sz="1800" spc="-1" strike="noStrike">
                <a:solidFill>
                  <a:srgbClr val="000066"/>
                </a:solidFill>
                <a:latin typeface="Tahoma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2819520" y="5181480"/>
            <a:ext cx="16002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398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1" name=""/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خدم        لتحل محل الفاعل العاقل و طبعاً نعرف الفاعل بوجوده أول الجملة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. The man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     من الجملة الثانية و نضع بدلاً منها         ثم نضع الجملة الثانية بعد الكلمة التي حذفنا مثلها في الجملة الأولى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re is 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  The man was a docto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as here is a doc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swims well. He lives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y friend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lives here swims wel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55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7297200" y="236232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للفاعل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54800" y="3124080"/>
            <a:ext cx="112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The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8880" y="3124080"/>
            <a:ext cx="640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تستعمل           لتحل محل المفعول به العاقل و طبعاً نعرف المفعول به بوجوده بعد الفعل.  لاحظ المثال التالي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came here. I visite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cc3300"/>
                </a:solidFill>
                <a:latin typeface="Arial"/>
              </a:rPr>
              <a:t>نحذف كلمة            من الجملة الثانية  ثم نضع            أول الجملة الثانية،  ونضع الاسم الموصول و الجملة الثانية بعد الكلمة التي حذفنا مثلها (التي يعود إليها الضمير) فتصبح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visited came her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was working with me.   I paid hi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man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 paid was working with m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.  You gave her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is is the girl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whom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gave a flower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66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6987600" y="2362320"/>
            <a:ext cx="91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1905120"/>
            <a:ext cx="42670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m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400" spc="-1" strike="noStrike">
                <a:solidFill>
                  <a:srgbClr val="000000"/>
                </a:solidFill>
                <a:latin typeface="Tahoma"/>
              </a:rPr>
              <a:t>[المفعول به العاقل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838200" y="3124080"/>
            <a:ext cx="59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476520" y="3124080"/>
            <a:ext cx="85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الغير عاقل و طبعاً نعرف الفاعل بوجوده أول الجملة أما المفعول به فيوجد بعد الفعل.  لاحظ المثال التالي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. He lost i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cc3300"/>
                </a:solidFill>
                <a:latin typeface="Arial"/>
              </a:rPr>
              <a:t>نرى أن كلمة            تعود على كلمة               فنحذفها و نضع بدلاً منها            في أول الجملة الثانية ثم نضع الاسم الموصول و الجملة الثانية بعد الكلمة التي حذفنا مثلها (التي يعود إليها الضمير) فتصبح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He found 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he lost yesterda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.  I live in i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is the house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 live in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is cheap.  It is very useful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is book </a:t>
            </a:r>
            <a:r>
              <a:rPr b="1" lang="en-US" sz="1600" spc="-1" strike="noStrike">
                <a:solidFill>
                  <a:srgbClr val="ffff00"/>
                </a:solidFill>
                <a:latin typeface="Arial"/>
              </a:rPr>
              <a:t>which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very useful is chea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77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7144920" y="2362320"/>
            <a:ext cx="872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666880" y="1905120"/>
            <a:ext cx="43434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ich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جماد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994440" y="3352680"/>
            <a:ext cx="54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hi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698360" y="3352680"/>
            <a:ext cx="98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his bo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961280" y="3352680"/>
            <a:ext cx="74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Tahoma"/>
              </a:rPr>
              <a:t>whi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تستعمل           لتحل محل الفاعل أو المفعول به العاقل و غير عاقل أي تحل محل أي أداة سبق شرحها.  لاحظ الأمثلة التالية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.  You met he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boy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om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m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.  It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have a bird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that (which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ing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189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"/>
          <p:cNvSpPr/>
          <p:nvPr/>
        </p:nvSpPr>
        <p:spPr>
          <a:xfrm>
            <a:off x="6560640" y="2387520"/>
            <a:ext cx="94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0" y="1905120"/>
            <a:ext cx="518148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hat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000" spc="-1" strike="noStrike">
                <a:solidFill>
                  <a:srgbClr val="000000"/>
                </a:solidFill>
                <a:latin typeface="Tahoma"/>
              </a:rPr>
              <a:t>[للعاقل و غير العاقل الفاعل أو المفعول به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Relative Pronouns</a:t>
            </a: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600"/>
            </a:br>
            <a:r>
              <a:rPr b="0" lang="ar-SA" sz="3600" spc="-1" strike="noStrike">
                <a:solidFill>
                  <a:srgbClr val="ffff00"/>
                </a:solidFill>
                <a:latin typeface="Arial"/>
              </a:rPr>
              <a:t> ضمائر الوصل</a:t>
            </a:r>
            <a:endParaRPr b="0" lang="en-US" sz="3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066320" y="2437920"/>
            <a:ext cx="7696440" cy="358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تستعمل           للملكية.  لاحظ المثال التالي:</a:t>
            </a: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. 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s is the man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whos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is car hit the bo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هنا نجد أن كلمة          مملوكة لـ                فنحذف ضمير الملكية و 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  <a:cs typeface="Tahoma"/>
              </a:rPr>
              <a:t>ن</a:t>
            </a:r>
            <a:r>
              <a:rPr b="0" lang="ar-SA" sz="2000" spc="-1" strike="noStrike">
                <a:solidFill>
                  <a:srgbClr val="ffffff"/>
                </a:solidFill>
                <a:latin typeface="Arial"/>
              </a:rPr>
              <a:t>ضع بدلاً منه الاسم الموصول             ثم نضع بعدها كلمة         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" action="ppaction://hlinkshowjump?jump=previousslide"/>
          </p:cNvPr>
          <p:cNvSpPr/>
          <p:nvPr/>
        </p:nvSpPr>
        <p:spPr>
          <a:xfrm>
            <a:off x="36576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10800"/>
                </a:moveTo>
                <a:lnTo>
                  <a:pt x="19969" y="3794"/>
                </a:lnTo>
                <a:lnTo>
                  <a:pt x="19969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سابق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759720" y="251460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895480" y="1905120"/>
            <a:ext cx="4114800" cy="38088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Whose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الذي، التي </a:t>
            </a:r>
            <a:r>
              <a:rPr b="1" lang="ar-SA" sz="1200" spc="-1" strike="noStrike">
                <a:solidFill>
                  <a:srgbClr val="000000"/>
                </a:solidFill>
                <a:latin typeface="Tahoma"/>
              </a:rPr>
              <a:t>[للملكية]</a:t>
            </a:r>
            <a:r>
              <a:rPr b="1" lang="ar-SA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43480" y="4572000"/>
            <a:ext cx="61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981080" y="4876920"/>
            <a:ext cx="60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26360" y="4876920"/>
            <a:ext cx="102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wh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861000" y="4572000"/>
            <a:ext cx="124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Tahoma"/>
              </a:rPr>
              <a:t>the m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لتحويل الجملة الخبرية إلى سؤال نضع الفعل المساعد في البداية: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الأفعال المساعدة هي: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elping Verb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 – is – are – was – were – have – has – had – will – would – shall – should – can – could – may – might – must – ought 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doctors.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doctor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e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help us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Ca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they help u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go to the market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cc3300"/>
                </a:solidFill>
                <a:latin typeface="Arial"/>
              </a:rPr>
              <a:t>Wil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ou go to the mark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>
            <a:hlinkClick r:id="" action="ppaction://hlinkshowjump?jump=firstslide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>
            <a:hlinkClick r:id="" action="ppaction://hlinkshowjump?jump=nextslide"/>
          </p:cNvPr>
          <p:cNvSpPr/>
          <p:nvPr/>
        </p:nvSpPr>
        <p:spPr>
          <a:xfrm>
            <a:off x="5715000" y="624852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924" h="21600">
                <a:moveTo>
                  <a:pt x="5956" y="3794"/>
                </a:moveTo>
                <a:lnTo>
                  <a:pt x="19969" y="10800"/>
                </a:lnTo>
                <a:lnTo>
                  <a:pt x="5956" y="17806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التالي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Making Questions</a:t>
            </a: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3200"/>
            </a:br>
            <a:r>
              <a:rPr b="0" lang="ar-SA" sz="4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ar-SA" sz="4000" spc="-1" strike="noStrike">
                <a:solidFill>
                  <a:srgbClr val="ffff00"/>
                </a:solidFill>
                <a:latin typeface="Arial"/>
              </a:rPr>
              <a:t>تكوين الأسئلة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 u="sng">
                <a:solidFill>
                  <a:srgbClr val="ffffff"/>
                </a:solidFill>
                <a:uFillTx/>
                <a:latin typeface="Arial"/>
              </a:rPr>
              <a:t>إذا لم يكن بالجملة فعل مساعد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بدون       نستخدم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y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you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rit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book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) مع الفعل المضارع الذي به       نستخدم             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أمثلـــــــــة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ِ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. 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hmed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pla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enni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Doe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Huda </a:t>
            </a:r>
            <a:r>
              <a:rPr b="0" lang="en-US" sz="1800" spc="-1" strike="noStrike">
                <a:solidFill>
                  <a:srgbClr val="cc3300"/>
                </a:solidFill>
                <a:latin typeface="Arial"/>
              </a:rPr>
              <a:t>watc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V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916640" y="403848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916640" y="5791320"/>
            <a:ext cx="6986880" cy="368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-1" strike="noStrike">
                <a:solidFill>
                  <a:srgbClr val="ffffff"/>
                </a:solidFill>
                <a:latin typeface="Tahoma"/>
              </a:rPr>
              <a:t>لاحظ إعادة الفعل إلى أصله (التصريف الأول) و ذلك لوجود الفعل المساع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2120" y="259092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407200" y="4495680"/>
            <a:ext cx="30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76360" y="2590920"/>
            <a:ext cx="491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633480" y="4495680"/>
            <a:ext cx="7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3300"/>
                </a:solidFill>
                <a:latin typeface="Tahoma"/>
              </a:rPr>
              <a:t>do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3657600" y="6248520"/>
            <a:ext cx="2514600" cy="380880"/>
            <a:chOff x="3657600" y="6248520"/>
            <a:chExt cx="2514600" cy="380880"/>
          </a:xfrm>
        </p:grpSpPr>
        <p:sp>
          <p:nvSpPr>
            <p:cNvPr id="220" name="">
              <a:hlinkClick r:id="" action="ppaction://hlinkshowjump?jump=firstslide"/>
            </p:cNvPr>
            <p:cNvSpPr/>
            <p:nvPr/>
          </p:nvSpPr>
          <p:spPr>
            <a:xfrm>
              <a:off x="4267080" y="6248520"/>
              <a:ext cx="1295640" cy="380880"/>
            </a:xfrm>
            <a:custGeom>
              <a:avLst/>
              <a:gdLst>
                <a:gd name="textAreaLeft" fmla="*/ 24480 w 1295640"/>
                <a:gd name="textAreaRight" fmla="*/ 1271160 w 129564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73428" h="21600">
                  <a:moveTo>
                    <a:pt x="0" y="0"/>
                  </a:moveTo>
                  <a:lnTo>
                    <a:pt x="73428" y="0"/>
                  </a:lnTo>
                  <a:lnTo>
                    <a:pt x="73428" y="21600"/>
                  </a:lnTo>
                  <a:lnTo>
                    <a:pt x="0" y="21600"/>
                  </a:lnTo>
                  <a:close/>
                </a:path>
                <a:path fill="lightenLess" w="73428" h="21600">
                  <a:moveTo>
                    <a:pt x="0" y="0"/>
                  </a:moveTo>
                  <a:lnTo>
                    <a:pt x="73428" y="0"/>
                  </a:lnTo>
                  <a:lnTo>
                    <a:pt x="72028" y="1400"/>
                  </a:lnTo>
                  <a:lnTo>
                    <a:pt x="1400" y="1400"/>
                  </a:lnTo>
                  <a:close/>
                </a:path>
                <a:path fill="darken" w="73428" h="21600">
                  <a:moveTo>
                    <a:pt x="73428" y="0"/>
                  </a:moveTo>
                  <a:lnTo>
                    <a:pt x="73428" y="21600"/>
                  </a:lnTo>
                  <a:lnTo>
                    <a:pt x="72028" y="20200"/>
                  </a:lnTo>
                  <a:lnTo>
                    <a:pt x="72028" y="1400"/>
                  </a:lnTo>
                  <a:close/>
                </a:path>
                <a:path fill="darkenLess" w="73428" h="21600">
                  <a:moveTo>
                    <a:pt x="7342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72028" y="20200"/>
                  </a:lnTo>
                  <a:close/>
                </a:path>
                <a:path fill="lighten" w="7342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73428" h="21600">
                  <a:moveTo>
                    <a:pt x="36714" y="3837"/>
                  </a:moveTo>
                  <a:lnTo>
                    <a:pt x="39290" y="6448"/>
                  </a:ln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lnTo>
                    <a:pt x="43677" y="10800"/>
                  </a:lnTo>
                  <a:lnTo>
                    <a:pt x="42023" y="10800"/>
                  </a:lnTo>
                  <a:lnTo>
                    <a:pt x="42023" y="17989"/>
                  </a:lnTo>
                  <a:lnTo>
                    <a:pt x="31405" y="17989"/>
                  </a:lnTo>
                  <a:lnTo>
                    <a:pt x="31405" y="10800"/>
                  </a:lnTo>
                  <a:lnTo>
                    <a:pt x="29751" y="10800"/>
                  </a:lnTo>
                  <a:close/>
                </a:path>
                <a:path fill="darkenLess" w="73428" h="21600">
                  <a:moveTo>
                    <a:pt x="39290" y="6448"/>
                  </a:moveTo>
                  <a:lnTo>
                    <a:pt x="39290" y="4707"/>
                  </a:lnTo>
                  <a:lnTo>
                    <a:pt x="41066" y="4707"/>
                  </a:lnTo>
                  <a:lnTo>
                    <a:pt x="41066" y="8224"/>
                  </a:lnTo>
                  <a:close/>
                </a:path>
                <a:path fill="darkenLess" w="73428" h="21600">
                  <a:moveTo>
                    <a:pt x="35791" y="14299"/>
                  </a:moveTo>
                  <a:lnTo>
                    <a:pt x="37636" y="14299"/>
                  </a:lnTo>
                  <a:lnTo>
                    <a:pt x="37636" y="17989"/>
                  </a:lnTo>
                  <a:lnTo>
                    <a:pt x="42023" y="17989"/>
                  </a:lnTo>
                  <a:lnTo>
                    <a:pt x="42023" y="10800"/>
                  </a:lnTo>
                  <a:lnTo>
                    <a:pt x="31405" y="10800"/>
                  </a:lnTo>
                  <a:lnTo>
                    <a:pt x="31405" y="17989"/>
                  </a:lnTo>
                  <a:lnTo>
                    <a:pt x="35791" y="17989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عودة إلى القائمة الرئيسية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>
              <a:hlinkClick r:id="" action="ppaction://hlinkshowjump?jump=nextslide"/>
            </p:cNvPr>
            <p:cNvSpPr/>
            <p:nvPr/>
          </p:nvSpPr>
          <p:spPr>
            <a:xfrm>
              <a:off x="57150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3794"/>
                  </a:moveTo>
                  <a:lnTo>
                    <a:pt x="19969" y="10800"/>
                  </a:lnTo>
                  <a:lnTo>
                    <a:pt x="5956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تالي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>
              <a:hlinkClick r:id="" action="ppaction://hlinkshowjump?jump=previousslide"/>
            </p:cNvPr>
            <p:cNvSpPr/>
            <p:nvPr/>
          </p:nvSpPr>
          <p:spPr>
            <a:xfrm>
              <a:off x="3657600" y="6248520"/>
              <a:ext cx="457200" cy="380880"/>
            </a:xfrm>
            <a:custGeom>
              <a:avLst/>
              <a:gdLst>
                <a:gd name="textAreaLeft" fmla="*/ 24480 w 457200"/>
                <a:gd name="textAreaRight" fmla="*/ 432720 w 457200"/>
                <a:gd name="textAreaTop" fmla="*/ 24480 h 380880"/>
                <a:gd name="textAreaBottom" fmla="*/ 356400 h 380880"/>
              </a:gdLst>
              <a:ahLst/>
              <a:rect l="textAreaLeft" t="textAreaTop" r="textAreaRight" b="textAreaBottom"/>
              <a:pathLst>
                <a:path w="25924" h="21600">
                  <a:moveTo>
                    <a:pt x="0" y="0"/>
                  </a:moveTo>
                  <a:lnTo>
                    <a:pt x="25924" y="0"/>
                  </a:lnTo>
                  <a:lnTo>
                    <a:pt x="25924" y="21600"/>
                  </a:lnTo>
                  <a:lnTo>
                    <a:pt x="0" y="21600"/>
                  </a:lnTo>
                  <a:close/>
                </a:path>
                <a:path fill="lightenLess" w="25924" h="21600">
                  <a:moveTo>
                    <a:pt x="0" y="0"/>
                  </a:moveTo>
                  <a:lnTo>
                    <a:pt x="25924" y="0"/>
                  </a:lnTo>
                  <a:lnTo>
                    <a:pt x="24524" y="1400"/>
                  </a:lnTo>
                  <a:lnTo>
                    <a:pt x="1400" y="1400"/>
                  </a:lnTo>
                  <a:close/>
                </a:path>
                <a:path fill="darken" w="25924" h="21600">
                  <a:moveTo>
                    <a:pt x="25924" y="0"/>
                  </a:moveTo>
                  <a:lnTo>
                    <a:pt x="25924" y="21600"/>
                  </a:lnTo>
                  <a:lnTo>
                    <a:pt x="24524" y="20200"/>
                  </a:lnTo>
                  <a:lnTo>
                    <a:pt x="24524" y="1400"/>
                  </a:lnTo>
                  <a:close/>
                </a:path>
                <a:path fill="darkenLess" w="25924" h="21600">
                  <a:moveTo>
                    <a:pt x="25924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4524" y="20200"/>
                  </a:lnTo>
                  <a:close/>
                </a:path>
                <a:path fill="lighten" w="25924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5924" h="21600">
                  <a:moveTo>
                    <a:pt x="5956" y="10800"/>
                  </a:moveTo>
                  <a:lnTo>
                    <a:pt x="19969" y="3794"/>
                  </a:lnTo>
                  <a:lnTo>
                    <a:pt x="19969" y="17806"/>
                  </a:lnTo>
                  <a:close/>
                </a:path>
              </a:pathLst>
            </a:custGeom>
            <a:solidFill>
              <a:srgbClr val="010199"/>
            </a:solidFill>
            <a:ln w="0">
              <a:noFill/>
            </a:ln>
            <a:effectLst>
              <a:outerShdw dist="107932" dir="2700000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i-IN" sz="900" spc="-1" strike="noStrike">
                  <a:solidFill>
                    <a:srgbClr val="ffffff"/>
                  </a:solidFill>
                  <a:latin typeface="Tahoma"/>
                </a:rPr>
                <a:t>السابق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>
            <a:hlinkClick r:id="rId1" action="ppaction://hlinksldjump"/>
          </p:cNvPr>
          <p:cNvSpPr/>
          <p:nvPr/>
        </p:nvSpPr>
        <p:spPr>
          <a:xfrm>
            <a:off x="4267080" y="6248520"/>
            <a:ext cx="1295640" cy="380880"/>
          </a:xfrm>
          <a:custGeom>
            <a:avLst/>
            <a:gdLst>
              <a:gd name="textAreaLeft" fmla="*/ 24480 w 1295640"/>
              <a:gd name="textAreaRight" fmla="*/ 1271160 w 12956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73428" h="21600">
                <a:moveTo>
                  <a:pt x="0" y="0"/>
                </a:moveTo>
                <a:lnTo>
                  <a:pt x="73428" y="0"/>
                </a:lnTo>
                <a:lnTo>
                  <a:pt x="73428" y="21600"/>
                </a:lnTo>
                <a:lnTo>
                  <a:pt x="0" y="21600"/>
                </a:lnTo>
                <a:close/>
              </a:path>
              <a:path fill="lightenLess" w="73428" h="21600">
                <a:moveTo>
                  <a:pt x="0" y="0"/>
                </a:moveTo>
                <a:lnTo>
                  <a:pt x="73428" y="0"/>
                </a:lnTo>
                <a:lnTo>
                  <a:pt x="72028" y="1400"/>
                </a:lnTo>
                <a:lnTo>
                  <a:pt x="1400" y="1400"/>
                </a:lnTo>
                <a:close/>
              </a:path>
              <a:path fill="darken" w="73428" h="21600">
                <a:moveTo>
                  <a:pt x="73428" y="0"/>
                </a:moveTo>
                <a:lnTo>
                  <a:pt x="73428" y="21600"/>
                </a:lnTo>
                <a:lnTo>
                  <a:pt x="72028" y="20200"/>
                </a:lnTo>
                <a:lnTo>
                  <a:pt x="72028" y="1400"/>
                </a:lnTo>
                <a:close/>
              </a:path>
              <a:path fill="darkenLess" w="73428" h="21600">
                <a:moveTo>
                  <a:pt x="734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2028" y="20200"/>
                </a:lnTo>
                <a:close/>
              </a:path>
              <a:path fill="lighten" w="734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3428" h="21600">
                <a:moveTo>
                  <a:pt x="36714" y="3837"/>
                </a:moveTo>
                <a:lnTo>
                  <a:pt x="39290" y="6448"/>
                </a:ln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lnTo>
                  <a:pt x="43677" y="10800"/>
                </a:lnTo>
                <a:lnTo>
                  <a:pt x="42023" y="10800"/>
                </a:lnTo>
                <a:lnTo>
                  <a:pt x="42023" y="17989"/>
                </a:lnTo>
                <a:lnTo>
                  <a:pt x="31405" y="17989"/>
                </a:lnTo>
                <a:lnTo>
                  <a:pt x="31405" y="10800"/>
                </a:lnTo>
                <a:lnTo>
                  <a:pt x="29751" y="10800"/>
                </a:lnTo>
                <a:close/>
              </a:path>
              <a:path fill="darkenLess" w="73428" h="21600">
                <a:moveTo>
                  <a:pt x="39290" y="6448"/>
                </a:moveTo>
                <a:lnTo>
                  <a:pt x="39290" y="4707"/>
                </a:lnTo>
                <a:lnTo>
                  <a:pt x="41066" y="4707"/>
                </a:lnTo>
                <a:lnTo>
                  <a:pt x="41066" y="8224"/>
                </a:lnTo>
                <a:close/>
              </a:path>
              <a:path fill="darkenLess" w="73428" h="21600">
                <a:moveTo>
                  <a:pt x="35791" y="14299"/>
                </a:moveTo>
                <a:lnTo>
                  <a:pt x="37636" y="14299"/>
                </a:lnTo>
                <a:lnTo>
                  <a:pt x="37636" y="17989"/>
                </a:lnTo>
                <a:lnTo>
                  <a:pt x="42023" y="17989"/>
                </a:lnTo>
                <a:lnTo>
                  <a:pt x="42023" y="10800"/>
                </a:lnTo>
                <a:lnTo>
                  <a:pt x="31405" y="10800"/>
                </a:lnTo>
                <a:lnTo>
                  <a:pt x="31405" y="17989"/>
                </a:lnTo>
                <a:lnTo>
                  <a:pt x="35791" y="17989"/>
                </a:lnTo>
                <a:close/>
              </a:path>
            </a:pathLst>
          </a:custGeom>
          <a:solidFill>
            <a:srgbClr val="010199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00" spc="-1" strike="noStrike">
                <a:solidFill>
                  <a:srgbClr val="ffffff"/>
                </a:solidFill>
                <a:latin typeface="Tahoma"/>
              </a:rPr>
              <a:t>عودة إلى القائمة الرئيسية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13T00:16:04Z</dcterms:created>
  <dc:creator>user</dc:creator>
  <dc:description/>
  <dc:language>en-US</dc:language>
  <cp:lastModifiedBy>user</cp:lastModifiedBy>
  <dcterms:modified xsi:type="dcterms:W3CDTF">2007-07-13T00:16:04Z</dcterms:modified>
  <cp:revision>1</cp:revision>
  <dc:subject/>
  <dc:title>الشريحة 1</dc:title>
</cp:coreProperties>
</file>