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657-CCC5-454C-BF93-015DA1A7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22B-EAFA-4D61-82AD-81C7004C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3D0-4899-4DDF-8FA6-0BB11C94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6CE-167E-441B-95F0-CD7F6E28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CF49-2F9F-46EE-86DA-C94539AD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39B4-2F05-4CE1-ADCF-3B89B95E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CED9-7AA1-4D23-9C8C-6184ECD3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7058-3A58-41DF-A65D-9EB38CAF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97D4-8112-441A-B341-A14B7B21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18E2-FEA6-4993-93E1-2C1B4DDE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333F-A29A-43B3-93AD-EA978DF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35B-E5BA-48CB-A756-2650F31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7A03-2B51-435F-ADD0-9CC6FBDF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4E31-4A93-415D-9EF7-E41FA8A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4E33-AD11-4306-8366-377D6DA8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9321-627D-4296-B3DC-5C902C1E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8233-BE0A-4767-9F8B-3D3C94F6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3615-0901-4639-B0A6-093E4FC0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E3A5-1E5D-45E2-B10A-ADF4462E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5F82-8E34-4133-86E7-E073F033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5F37-60A3-4ABA-AD0B-5823AF31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13D1-A416-42F3-AF74-30361959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907-D957-4D89-860C-7DCCE844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0DBF-FB28-4464-8058-12533087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73B8-BB63-49C3-8085-98F9ECB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651D-85FF-471D-B40C-28E90D35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07A8-CD77-4261-A7F9-34748C42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981E-3C37-4048-93E1-1434E2CC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B3E9-C5C8-42FD-AF3C-9124DEF1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E18F-2817-4B0F-89A7-02E09B7C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2E6-9954-4CCD-B4BA-178DD078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8C5-B6A9-4F88-BA3D-D2E60E1C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2C8-9024-4B54-A649-E0E275C5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CFF-8BDB-47C8-93E9-3577406F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BD9-30D9-418C-B77A-25062D0B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40A-F65F-4F95-8DE1-DDE0B84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0ED5-E64A-460E-93C3-B84EFCA7B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5C15-BB87-4777-98D2-4E9D93F9CF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35B5-18EE-4944-A7BF-7E0F006A42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أو        نحولها إلى حرف      ،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743200"/>
          <a:ext cx="7238880" cy="136836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90720" y="434340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مركبة تجمع حسب الاسم الأخير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0020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56424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616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هناك بعض الأسماء الشاذ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4520" y="2849400"/>
          <a:ext cx="7172280" cy="328644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untable nouns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تي لا جمع لها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t, coffee, tea, food, meat, gold, music, bloo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تستطيع استخدا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أو             قب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ماء الغير المعدو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 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1" lang="ar-SA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12840" y="2644920"/>
          <a:ext cx="7473960" cy="3286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246320"/>
                <a:gridCol w="1245960"/>
                <a:gridCol w="1244520"/>
                <a:gridCol w="124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ق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ل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ح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لو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ه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ب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ط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ا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ك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خب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جا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ب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ل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ر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ب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urn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فروش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ط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ما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وسيق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r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خ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99072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زيداً من الأسماء الغير المع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ميع الأسماء الغير المعدودة تعامل معاملة المفر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traditional drink in Saudi Arab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miner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 لكن لو وضعت كلمات تدل على الكمية قبل الاسم الغير معدود فأنه يعامل معاملة ال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ups of tea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enough for 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liters of oil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operate this mach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finite &amp; Indefinite Articl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و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used as in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ان كأدوات نكرة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used as 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كأداة للتعري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96080" y="4343400"/>
            <a:ext cx="457200" cy="1206360"/>
            <a:chOff x="7696080" y="4343400"/>
            <a:chExt cx="457200" cy="1206360"/>
          </a:xfrm>
        </p:grpSpPr>
        <p:sp>
          <p:nvSpPr>
            <p:cNvPr id="260" name=""/>
            <p:cNvSpPr/>
            <p:nvPr/>
          </p:nvSpPr>
          <p:spPr>
            <a:xfrm>
              <a:off x="777240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960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روف المتحركة  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e – i – o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8302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96360" y="29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873000" y="2441520"/>
          <a:ext cx="7772040" cy="3536640"/>
        </p:xfrm>
        <a:graphic>
          <a:graphicData uri="http://schemas.openxmlformats.org/drawingml/2006/table">
            <a:tbl>
              <a:tblPr/>
              <a:tblGrid>
                <a:gridCol w="2826720"/>
                <a:gridCol w="2493360"/>
                <a:gridCol w="24519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ingular countable nou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أسماء المفردة المعدو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a job, a particular group of people or a national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وظيفة أو مجموعة معينة من الناس أو الجنسي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ineer. S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wome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numbers that mean ever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أرقام التي تعني ”كل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hes his hands ten time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y.  (means every da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"/>
          <p:cNvGraphicFramePr/>
          <p:nvPr/>
        </p:nvGraphicFramePr>
        <p:xfrm>
          <a:off x="873000" y="2690640"/>
          <a:ext cx="7772040" cy="2769840"/>
        </p:xfrm>
        <a:graphic>
          <a:graphicData uri="http://schemas.openxmlformats.org/drawingml/2006/table">
            <a:tbl>
              <a:tblPr/>
              <a:tblGrid>
                <a:gridCol w="2826000"/>
                <a:gridCol w="2493720"/>
                <a:gridCol w="245232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abstract nouns and the names of met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الأسماء المعنوية و أسماء المعاد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, beauty, hatred, wood, silver, g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plural or uncountable noun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الجمع أو الأسماء الغير معدود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books on the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k is good for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295280" y="2897280"/>
          <a:ext cx="7391160" cy="282060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that is the only one of its ki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لا يوجد من نوعه سوى واحد فق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iver Ni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a’a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rivers, seas, oceans,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أنهار و البحار........ال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bian Gul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d 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which is the object of  a sent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يكون مفعول به لجمل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r answered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ames of musical instrume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آلات الموسيق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you play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uf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Uses of Verb to HAV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ستخدامات أخرى مع فعل ”يملك“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express necessity in the present and past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ave to, has to, had to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عبر عن الضرورة في المضارع و الماضي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 to lea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ome model auxiliari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أفعال الناقصة.  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d be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e a do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show that something is caused by another pers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بين أن شيئاً ما حصل بواسطة شخص اخر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shoes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lea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ery we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1295280" y="2897280"/>
          <a:ext cx="7391160" cy="287784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some countr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بعض البلدا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ited Kingdom 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.S.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time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ابير الدالة على الوق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ek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dat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تواري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irst day of every mon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general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بيرات العام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/new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rket/deser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23880" y="1935000"/>
          <a:ext cx="8062560" cy="4063680"/>
        </p:xfrm>
        <a:graphic>
          <a:graphicData uri="http://schemas.openxmlformats.org/drawingml/2006/table">
            <a:tbl>
              <a:tblPr/>
              <a:tblGrid>
                <a:gridCol w="2743200"/>
                <a:gridCol w="2659680"/>
                <a:gridCol w="2659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article with the name that is repe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تخدم أداة التعريف أل مع الاسم الذي ذكر للمرة الثان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w a man.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 was you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the names of studies of subjec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أسماء المواد الدراس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o not like science. My favorite subject is mathema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as school, home, bed, work, 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أسماء معينة مثل مدرسة، منزل، سرير، عمل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going to sch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lways go to bed earl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such as day and month na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 أسماء معينة مثل الأيام و الشهو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Monday,  in 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summer (sometimes in the summer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breakfa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noun replaces a 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 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ضمير يحل محل الاس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63680" y="2371680"/>
          <a:ext cx="7172280" cy="3843360"/>
        </p:xfrm>
        <a:graphic>
          <a:graphicData uri="http://schemas.openxmlformats.org/drawingml/2006/table">
            <a:tbl>
              <a:tblPr/>
              <a:tblGrid>
                <a:gridCol w="1434960"/>
                <a:gridCol w="1433520"/>
                <a:gridCol w="1359000"/>
                <a:gridCol w="1585800"/>
                <a:gridCol w="1359000"/>
              </a:tblGrid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 Pronouns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ect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فعول 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ات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flex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انعكا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 pronouns instead of a noun when it is clear who or what we are talking ab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الضمير بدلا من الاسم عندما نكون على علم  مع من أو عن أي شيء نتحد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ة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a good stu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sses all his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مفعول به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n object pro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ير المفعول به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a pre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حروف الج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verbs lik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ke, give, send, lend, pass, take,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2480" y="2852640"/>
            <a:ext cx="3184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you live nea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the box directly to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4952880"/>
            <a:ext cx="3167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ittle bo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h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lexive Pro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ضمائر الانعكاسي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xive pronouns are 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ائرالإنعكاسية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mphasiz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للتأكيد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ome special exp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تعابير الخاص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08720" y="2708280"/>
            <a:ext cx="417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d you do the decoration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id the painting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4800600"/>
            <a:ext cx="316692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lp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b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(I live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أسماء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words we use to 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سماء هي الكلمات التي نستخدمها لذك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م ، علم ، شخص ، شيء ، مكان ، أفكار ، شعو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3735360"/>
          <a:ext cx="7619400" cy="2231640"/>
        </p:xfrm>
        <a:graphic>
          <a:graphicData uri="http://schemas.openxmlformats.org/drawingml/2006/table">
            <a:tbl>
              <a:tblPr/>
              <a:tblGrid>
                <a:gridCol w="1142280"/>
                <a:gridCol w="1219680"/>
                <a:gridCol w="525744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, father, teacher, neighb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, table, sugar, fru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ا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, street, city, ho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فك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dom, honesty, tru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ع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ppiness, anger, boredom, jo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able &amp; Uncountable 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الأسماء المعدودة و غير المعدود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re things that be counted as one, two, three, and so 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أشياء التي يمكن عدها بـ واحد ، اثنان ، ثلاثة وهكذ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غير 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تي لا يمكن عدها  أي لا يمكن وضع رقم قبل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nouns have singular and plural fo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ه الأسماء لها صيغ مفردة و 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ingular countable nouns you can us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بل الأسماء المفردة المعدودة تستطيع استخدام 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not use singular countable nouns alone without words such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, an, one, my, your, hi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نستطيع استخدام أسماء مفردة معدودة بمفردها بدون الكلمات السابق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13000" y="28526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(a/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rm plurals of most nouns by adding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singular 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كوّن الجمع من معظم الأسماء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لاسم المفرد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4267080"/>
          <a:ext cx="7543800" cy="1660680"/>
        </p:xfrm>
        <a:graphic>
          <a:graphicData uri="http://schemas.openxmlformats.org/drawingml/2006/table">
            <a:tbl>
              <a:tblPr/>
              <a:tblGrid>
                <a:gridCol w="3733560"/>
                <a:gridCol w="3810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الحروف                            نضيف له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2781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h, ch, z, x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2852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65360" y="3460680"/>
          <a:ext cx="7021440" cy="2613240"/>
        </p:xfrm>
        <a:graphic>
          <a:graphicData uri="http://schemas.openxmlformats.org/drawingml/2006/table">
            <a:tbl>
              <a:tblPr/>
              <a:tblGrid>
                <a:gridCol w="3473280"/>
                <a:gridCol w="354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تحذف  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551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096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6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sp>
          <p:nvSpPr>
            <p:cNvPr id="189" name=""/>
            <p:cNvSpPr/>
            <p:nvPr/>
          </p:nvSpPr>
          <p:spPr>
            <a:xfrm>
              <a:off x="838080" y="4267080"/>
              <a:ext cx="7848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</a:rPr>
                <a:t>الأسماء التي تنتهي بحرف       وسبقه حرف متحرك، نضيف       فق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44792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057400" y="2209680"/>
            <a:ext cx="3962160" cy="520560"/>
            <a:chOff x="2057400" y="2209680"/>
            <a:chExt cx="3962160" cy="520560"/>
          </a:xfrm>
        </p:grpSpPr>
        <p:sp>
          <p:nvSpPr>
            <p:cNvPr id="202" name=""/>
            <p:cNvSpPr/>
            <p:nvPr/>
          </p:nvSpPr>
          <p:spPr>
            <a:xfrm>
              <a:off x="5638680" y="2209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4400" y="4267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متحرك، نضيف       فق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4191120"/>
            <a:ext cx="3733920" cy="520560"/>
            <a:chOff x="2209680" y="4191120"/>
            <a:chExt cx="3733920" cy="520560"/>
          </a:xfrm>
        </p:grpSpPr>
        <p:sp>
          <p:nvSpPr>
            <p:cNvPr id="206" name=""/>
            <p:cNvSpPr/>
            <p:nvPr/>
          </p:nvSpPr>
          <p:spPr>
            <a:xfrm>
              <a:off x="5562360" y="4191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91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1514520" y="4616280"/>
          <a:ext cx="7172280" cy="136692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5:23Z</dcterms:created>
  <dc:creator>user</dc:creator>
  <dc:description/>
  <dc:language>en-US</dc:language>
  <cp:lastModifiedBy>user</cp:lastModifiedBy>
  <dcterms:modified xsi:type="dcterms:W3CDTF">2007-07-13T00:15:23Z</dcterms:modified>
  <cp:revision>1</cp:revision>
  <dc:subject/>
  <dc:title>الشريحة 1</dc:title>
</cp:coreProperties>
</file>